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gif" ContentType="image/gif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gif" ContentType="image/gif"/>
  <Override PartName="/ppt/media/image46.jpeg" ContentType="image/jpeg"/>
  <Override PartName="/ppt/media/image58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35.gif" ContentType="image/gif"/>
  <Override PartName="/ppt/media/image43.png" ContentType="image/png"/>
  <Override PartName="/ppt/media/image42.png" ContentType="image/png"/>
  <Override PartName="/ppt/media/image40.png" ContentType="image/png"/>
  <Override PartName="/ppt/media/image34.gif" ContentType="image/gif"/>
  <Override PartName="/ppt/media/image37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20.png" ContentType="image/png"/>
  <Override PartName="/ppt/media/image22.png" ContentType="image/png"/>
  <Override PartName="/ppt/media/image60.png" ContentType="image/png"/>
  <Override PartName="/ppt/media/image25.png" ContentType="image/png"/>
  <Override PartName="/ppt/media/image32.gif" ContentType="image/gif"/>
  <Override PartName="/ppt/media/image62.png" ContentType="image/png"/>
  <Override PartName="/ppt/media/image27.gif" ContentType="image/gif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24.gif" ContentType="image/gif"/>
  <Override PartName="/ppt/media/image64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59.wmf" ContentType="image/x-wmf"/>
  <Override PartName="/ppt/media/image76.png" ContentType="image/png"/>
  <Override PartName="/ppt/media/image75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26.png" ContentType="image/png"/>
  <Override PartName="/ppt/media/image8.jpeg" ContentType="image/jpeg"/>
  <Override PartName="/ppt/media/image17.png" ContentType="image/png"/>
  <Override PartName="/ppt/media/image39.jpeg" ContentType="image/jpeg"/>
  <Override PartName="/ppt/media/image5.png" ContentType="image/png"/>
  <Override PartName="/ppt/media/image23.png" ContentType="image/png"/>
  <Override PartName="/ppt/media/image33.png" ContentType="image/png"/>
  <Override PartName="/ppt/media/image30.gif" ContentType="image/gif"/>
  <Override PartName="/ppt/media/image13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4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212-1B9D-40F4-94E0-EE574894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1D4-C8F6-4FE5-9B7A-94725376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2AF-1D5B-4382-A749-E45CCE10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C41-FD83-41BF-BB7F-1790A1FE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EA3-C051-419B-9C3D-7BAF026A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03C-A200-4139-A4C9-A77D403D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120-F4E2-4B9A-A710-73490C47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C84-D704-4E1A-8BD3-37C30FB7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762-A768-4179-9A51-001B060E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C03-1D2F-4E60-BB17-71FC6BBF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38A-BE14-4660-A470-D8AE768B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DE4-F0BD-4557-B163-CF962304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3C75-5C32-41A6-ADFF-38D184E37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image" Target="../media/image19.png"/><Relationship Id="rId35" Type="http://schemas.openxmlformats.org/officeDocument/2006/relationships/image" Target="../media/image19.png"/><Relationship Id="rId3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hyperlink" Target="file:///tmp/home/.config/libreoffice/4/user/gallery/error.wav" TargetMode="External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BUTTON1.wav" TargetMode="External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hyperlink" Target="file:///tmp/home/.config/libreoffice/4/user/gallery/BUTTON1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hyperlink" Target="file:///tmp/home/.config/libreoffice/4/user/gallery/error.wav" TargetMode="External"/><Relationship Id="rId14" Type="http://schemas.openxmlformats.org/officeDocument/2006/relationships/hyperlink" Target="file:///tmp/home/.config/libreoffice/4/user/gallery/error.wav" TargetMode="External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0.gif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1.png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hyperlink" Target="file:///tmp/home/.config/libreoffice/4/user/gallery/error.wav" TargetMode="External"/><Relationship Id="rId11" Type="http://schemas.openxmlformats.org/officeDocument/2006/relationships/hyperlink" Target="file:///tmp/home/.config/libreoffice/4/user/gallery/BUTTON1.wav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5.gif"/><Relationship Id="rId9" Type="http://schemas.openxmlformats.org/officeDocument/2006/relationships/image" Target="../media/image35.gif"/><Relationship Id="rId10" Type="http://schemas.openxmlformats.org/officeDocument/2006/relationships/hyperlink" Target="file:///tmp/home/.config/libreoffice/4/user/gallery/BUTTON1.wav" TargetMode="External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hyperlink" Target="file:///tmp/home/.config/libreoffice/4/user/gallery/error.wav" TargetMode="External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6.png"/><Relationship Id="rId4" Type="http://schemas.openxmlformats.org/officeDocument/2006/relationships/hyperlink" Target="http://planetejeanjaures.free.fr/ferme/fxdd.htm" TargetMode="External"/><Relationship Id="rId5" Type="http://schemas.openxmlformats.org/officeDocument/2006/relationships/image" Target="../media/image37.png"/><Relationship Id="rId6" Type="http://schemas.openxmlformats.org/officeDocument/2006/relationships/hyperlink" Target="http://planetejeanjaures.free.fr/ferme/fxdd.htm" TargetMode="External"/><Relationship Id="rId7" Type="http://schemas.openxmlformats.org/officeDocument/2006/relationships/image" Target="../media/image37.png"/><Relationship Id="rId8" Type="http://schemas.openxmlformats.org/officeDocument/2006/relationships/hyperlink" Target="http://planetejeanjaures.free.fr/ferme/fxdd.htm" TargetMode="External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hyperlink" Target="file:///tmp/home/.config/libreoffice/4/user/gallery/error.wav" TargetMode="External"/><Relationship Id="rId14" Type="http://schemas.openxmlformats.org/officeDocument/2006/relationships/hyperlink" Target="file:///tmp/home/.config/libreoffice/4/user/gallery/BUTTON1.wav" TargetMode="External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hyperlink" Target="http://www.ifsanimal.com/images/biblio/biblio_oie.gif" TargetMode="External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hyperlink" Target="http://www.ifsanimal.com/images/biblio/biblio_oie.gif" TargetMode="External"/><Relationship Id="rId7" Type="http://schemas.openxmlformats.org/officeDocument/2006/relationships/image" Target="../media/image39.jpeg"/><Relationship Id="rId8" Type="http://schemas.openxmlformats.org/officeDocument/2006/relationships/hyperlink" Target="http://www.ifsanimal.com/images/biblio/biblio_oie.gif" TargetMode="External"/><Relationship Id="rId9" Type="http://schemas.openxmlformats.org/officeDocument/2006/relationships/image" Target="../media/image39.jpeg"/><Relationship Id="rId10" Type="http://schemas.openxmlformats.org/officeDocument/2006/relationships/image" Target="../media/image41.wmf"/><Relationship Id="rId11" Type="http://schemas.openxmlformats.org/officeDocument/2006/relationships/hyperlink" Target="file:///tmp/home/.config/libreoffice/4/user/gallery/BUTTON1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hyperlink" Target="file:///tmp/home/.config/libreoffice/4/user/gallery/error.wav" TargetMode="External"/><Relationship Id="rId14" Type="http://schemas.openxmlformats.org/officeDocument/2006/relationships/hyperlink" Target="file:///tmp/home/.config/libreoffice/4/user/gallery/error.wav" TargetMode="External"/><Relationship Id="rId1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hyperlink" Target="http://www.h2ouniversity.org/assets/images/clipart/clipart_grass.gif" TargetMode="External"/><Relationship Id="rId7" Type="http://schemas.openxmlformats.org/officeDocument/2006/relationships/image" Target="../media/image44.jpeg"/><Relationship Id="rId8" Type="http://schemas.openxmlformats.org/officeDocument/2006/relationships/hyperlink" Target="http://planetejeanjaures.free.fr/ferme/fxdd.htm" TargetMode="External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hyperlink" Target="file:///tmp/home/.config/libreoffice/4/user/gallery/BUTTON1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47.png"/><Relationship Id="rId4" Type="http://schemas.openxmlformats.org/officeDocument/2006/relationships/image" Target="../media/image48.gif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image" Target="../media/image54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image" Target="../media/image54.png"/><Relationship Id="rId12" Type="http://schemas.openxmlformats.org/officeDocument/2006/relationships/hyperlink" Target="file:///tmp/home/.config/libreoffice/4/user/gallery/BUTTON1.wav" TargetMode="External"/><Relationship Id="rId13" Type="http://schemas.openxmlformats.org/officeDocument/2006/relationships/hyperlink" Target="file:///tmp/home/.config/libreoffice/4/user/gallery/error.wav" TargetMode="External"/><Relationship Id="rId1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6.png"/><Relationship Id="rId4" Type="http://schemas.openxmlformats.org/officeDocument/2006/relationships/image" Target="../media/image57.gif"/><Relationship Id="rId5" Type="http://schemas.openxmlformats.org/officeDocument/2006/relationships/image" Target="../media/image58.png"/><Relationship Id="rId6" Type="http://schemas.openxmlformats.org/officeDocument/2006/relationships/image" Target="../media/image57.gif"/><Relationship Id="rId7" Type="http://schemas.openxmlformats.org/officeDocument/2006/relationships/image" Target="../media/image59.wmf"/><Relationship Id="rId8" Type="http://schemas.openxmlformats.org/officeDocument/2006/relationships/image" Target="../media/image59.wmf"/><Relationship Id="rId9" Type="http://schemas.openxmlformats.org/officeDocument/2006/relationships/image" Target="../media/image59.wmf"/><Relationship Id="rId10" Type="http://schemas.openxmlformats.org/officeDocument/2006/relationships/image" Target="../media/image59.wmf"/><Relationship Id="rId11" Type="http://schemas.openxmlformats.org/officeDocument/2006/relationships/hyperlink" Target="file:///tmp/home/.config/libreoffice/4/user/gallery/BUTTON1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1.jpeg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4.pn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BUTTON1.wav" TargetMode="External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5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6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7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8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9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0.png"/><Relationship Id="rId4" Type="http://schemas.openxmlformats.org/officeDocument/2006/relationships/hyperlink" Target="http://www2.csdm.qc.ca/SJdelaLande/lesclasses/1web/Probl&#232;mes/Probl&#232;mes%20index.htm" TargetMode="External"/><Relationship Id="rId5" Type="http://schemas.openxmlformats.org/officeDocument/2006/relationships/image" Target="../media/image71.png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BUTTON1.wav" TargetMode="External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2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1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3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4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5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6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7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21.png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372600" cy="6858000"/>
            <a:chOff x="0" y="0"/>
            <a:chExt cx="9372600" cy="685800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4543560" y="0"/>
              <a:ext cx="460044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33520" cy="21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4"/>
            <a:stretch/>
          </p:blipFill>
          <p:spPr>
            <a:xfrm>
              <a:off x="2362320" y="0"/>
              <a:ext cx="2333520" cy="21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5"/>
            <a:stretch/>
          </p:blipFill>
          <p:spPr>
            <a:xfrm>
              <a:off x="6400800" y="2286000"/>
              <a:ext cx="29718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6"/>
            <a:stretch/>
          </p:blipFill>
          <p:spPr>
            <a:xfrm>
              <a:off x="3809880" y="2286000"/>
              <a:ext cx="29718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7"/>
            <a:stretch/>
          </p:blipFill>
          <p:spPr>
            <a:xfrm>
              <a:off x="685800" y="1438200"/>
              <a:ext cx="5581800" cy="541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467240" y="3614760"/>
              <a:ext cx="11430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ASA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990720" y="1447920"/>
              <a:ext cx="3403440" cy="1473120"/>
              <a:chOff x="990720" y="1447920"/>
              <a:chExt cx="3403440" cy="147312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1447920"/>
                <a:ext cx="3403440" cy="1473120"/>
              </a:xfrm>
              <a:custGeom>
                <a:avLst/>
                <a:gdLst/>
                <a:ahLst/>
                <a:rect l="l" t="t" r="r" b="b"/>
                <a:pathLst>
                  <a:path w="17866" h="7733">
                    <a:moveTo>
                      <a:pt x="17666" y="6866"/>
                    </a:moveTo>
                    <a:cubicBezTo>
                      <a:pt x="17866" y="6800"/>
                      <a:pt x="17733" y="6333"/>
                      <a:pt x="17666" y="6066"/>
                    </a:cubicBezTo>
                    <a:cubicBezTo>
                      <a:pt x="17600" y="5800"/>
                      <a:pt x="17666" y="5533"/>
                      <a:pt x="17266" y="5266"/>
                    </a:cubicBezTo>
                    <a:cubicBezTo>
                      <a:pt x="16866" y="5000"/>
                      <a:pt x="15600" y="4733"/>
                      <a:pt x="15266" y="4466"/>
                    </a:cubicBezTo>
                    <a:cubicBezTo>
                      <a:pt x="14933" y="4200"/>
                      <a:pt x="15466" y="3933"/>
                      <a:pt x="15266" y="3666"/>
                    </a:cubicBezTo>
                    <a:cubicBezTo>
                      <a:pt x="15066" y="3400"/>
                      <a:pt x="14466" y="2933"/>
                      <a:pt x="14066" y="2866"/>
                    </a:cubicBezTo>
                    <a:cubicBezTo>
                      <a:pt x="13666" y="2800"/>
                      <a:pt x="13200" y="3466"/>
                      <a:pt x="12866" y="3266"/>
                    </a:cubicBezTo>
                    <a:cubicBezTo>
                      <a:pt x="12533" y="3066"/>
                      <a:pt x="12400" y="1933"/>
                      <a:pt x="12066" y="1666"/>
                    </a:cubicBezTo>
                    <a:cubicBezTo>
                      <a:pt x="11733" y="1400"/>
                      <a:pt x="11200" y="1733"/>
                      <a:pt x="10866" y="1666"/>
                    </a:cubicBezTo>
                    <a:cubicBezTo>
                      <a:pt x="10533" y="1600"/>
                      <a:pt x="10400" y="1533"/>
                      <a:pt x="10066" y="1266"/>
                    </a:cubicBezTo>
                    <a:cubicBezTo>
                      <a:pt x="9733" y="1000"/>
                      <a:pt x="9266" y="133"/>
                      <a:pt x="8866" y="66"/>
                    </a:cubicBezTo>
                    <a:cubicBezTo>
                      <a:pt x="8466" y="0"/>
                      <a:pt x="8066" y="800"/>
                      <a:pt x="7666" y="866"/>
                    </a:cubicBezTo>
                    <a:cubicBezTo>
                      <a:pt x="7266" y="933"/>
                      <a:pt x="6866" y="600"/>
                      <a:pt x="6466" y="466"/>
                    </a:cubicBezTo>
                    <a:cubicBezTo>
                      <a:pt x="6066" y="333"/>
                      <a:pt x="5800" y="0"/>
                      <a:pt x="5266" y="66"/>
                    </a:cubicBezTo>
                    <a:cubicBezTo>
                      <a:pt x="4733" y="133"/>
                      <a:pt x="3666" y="666"/>
                      <a:pt x="3266" y="866"/>
                    </a:cubicBezTo>
                    <a:cubicBezTo>
                      <a:pt x="2866" y="1066"/>
                      <a:pt x="3200" y="1200"/>
                      <a:pt x="2866" y="1266"/>
                    </a:cubicBezTo>
                    <a:cubicBezTo>
                      <a:pt x="2533" y="1333"/>
                      <a:pt x="1600" y="1066"/>
                      <a:pt x="1266" y="1266"/>
                    </a:cubicBezTo>
                    <a:cubicBezTo>
                      <a:pt x="933" y="1466"/>
                      <a:pt x="933" y="2133"/>
                      <a:pt x="866" y="2466"/>
                    </a:cubicBezTo>
                    <a:cubicBezTo>
                      <a:pt x="800" y="2800"/>
                      <a:pt x="1000" y="2933"/>
                      <a:pt x="866" y="3266"/>
                    </a:cubicBezTo>
                    <a:cubicBezTo>
                      <a:pt x="733" y="3600"/>
                      <a:pt x="133" y="4200"/>
                      <a:pt x="66" y="4466"/>
                    </a:cubicBezTo>
                    <a:cubicBezTo>
                      <a:pt x="0" y="4733"/>
                      <a:pt x="333" y="4666"/>
                      <a:pt x="466" y="4866"/>
                    </a:cubicBezTo>
                    <a:cubicBezTo>
                      <a:pt x="600" y="5066"/>
                      <a:pt x="733" y="5266"/>
                      <a:pt x="866" y="5666"/>
                    </a:cubicBezTo>
                    <a:cubicBezTo>
                      <a:pt x="1000" y="6066"/>
                      <a:pt x="1000" y="7133"/>
                      <a:pt x="1266" y="7266"/>
                    </a:cubicBezTo>
                    <a:cubicBezTo>
                      <a:pt x="1533" y="7400"/>
                      <a:pt x="2266" y="6400"/>
                      <a:pt x="2466" y="6466"/>
                    </a:cubicBezTo>
                    <a:cubicBezTo>
                      <a:pt x="2666" y="6533"/>
                      <a:pt x="2133" y="7600"/>
                      <a:pt x="2466" y="7666"/>
                    </a:cubicBezTo>
                    <a:cubicBezTo>
                      <a:pt x="2800" y="7733"/>
                      <a:pt x="4066" y="6933"/>
                      <a:pt x="4466" y="6866"/>
                    </a:cubicBezTo>
                    <a:cubicBezTo>
                      <a:pt x="4866" y="6800"/>
                      <a:pt x="4533" y="7266"/>
                      <a:pt x="4866" y="7266"/>
                    </a:cubicBezTo>
                    <a:cubicBezTo>
                      <a:pt x="5200" y="7266"/>
                      <a:pt x="6066" y="6933"/>
                      <a:pt x="6466" y="6866"/>
                    </a:cubicBezTo>
                    <a:cubicBezTo>
                      <a:pt x="6866" y="6800"/>
                      <a:pt x="7000" y="6800"/>
                      <a:pt x="7266" y="6866"/>
                    </a:cubicBezTo>
                    <a:cubicBezTo>
                      <a:pt x="7533" y="6933"/>
                      <a:pt x="7733" y="7333"/>
                      <a:pt x="8066" y="7266"/>
                    </a:cubicBezTo>
                    <a:cubicBezTo>
                      <a:pt x="8400" y="7200"/>
                      <a:pt x="8933" y="6466"/>
                      <a:pt x="9266" y="6466"/>
                    </a:cubicBezTo>
                    <a:cubicBezTo>
                      <a:pt x="9600" y="6466"/>
                      <a:pt x="9733" y="7200"/>
                      <a:pt x="10066" y="7266"/>
                    </a:cubicBezTo>
                    <a:cubicBezTo>
                      <a:pt x="10400" y="7333"/>
                      <a:pt x="10933" y="6800"/>
                      <a:pt x="11266" y="6866"/>
                    </a:cubicBezTo>
                    <a:cubicBezTo>
                      <a:pt x="11600" y="6933"/>
                      <a:pt x="11733" y="7600"/>
                      <a:pt x="12066" y="7666"/>
                    </a:cubicBezTo>
                    <a:cubicBezTo>
                      <a:pt x="12400" y="7733"/>
                      <a:pt x="12800" y="7466"/>
                      <a:pt x="13266" y="7266"/>
                    </a:cubicBezTo>
                    <a:cubicBezTo>
                      <a:pt x="13733" y="7066"/>
                      <a:pt x="14333" y="6600"/>
                      <a:pt x="14866" y="6466"/>
                    </a:cubicBezTo>
                    <a:cubicBezTo>
                      <a:pt x="15400" y="6333"/>
                      <a:pt x="16000" y="6400"/>
                      <a:pt x="16466" y="6466"/>
                    </a:cubicBezTo>
                    <a:cubicBezTo>
                      <a:pt x="16933" y="6533"/>
                      <a:pt x="17466" y="6933"/>
                      <a:pt x="17666" y="6866"/>
                    </a:cubicBezTo>
                  </a:path>
                </a:pathLst>
              </a:custGeom>
              <a:solidFill>
                <a:srgbClr val="ddf2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90720" y="1447920"/>
                <a:ext cx="3403440" cy="1473120"/>
              </a:xfrm>
              <a:custGeom>
                <a:avLst/>
                <a:gdLst/>
                <a:ahLst/>
                <a:rect l="l" t="t" r="r" b="b"/>
                <a:pathLst>
                  <a:path w="2144" h="928">
                    <a:moveTo>
                      <a:pt x="2120" y="824"/>
                    </a:moveTo>
                    <a:cubicBezTo>
                      <a:pt x="2144" y="816"/>
                      <a:pt x="2128" y="760"/>
                      <a:pt x="2120" y="728"/>
                    </a:cubicBezTo>
                    <a:cubicBezTo>
                      <a:pt x="2112" y="696"/>
                      <a:pt x="2120" y="664"/>
                      <a:pt x="2072" y="632"/>
                    </a:cubicBezTo>
                    <a:cubicBezTo>
                      <a:pt x="2024" y="600"/>
                      <a:pt x="1872" y="568"/>
                      <a:pt x="1832" y="536"/>
                    </a:cubicBezTo>
                    <a:cubicBezTo>
                      <a:pt x="1792" y="504"/>
                      <a:pt x="1856" y="472"/>
                      <a:pt x="1832" y="440"/>
                    </a:cubicBezTo>
                    <a:cubicBezTo>
                      <a:pt x="1808" y="408"/>
                      <a:pt x="1736" y="352"/>
                      <a:pt x="1688" y="344"/>
                    </a:cubicBezTo>
                    <a:cubicBezTo>
                      <a:pt x="1640" y="336"/>
                      <a:pt x="1584" y="416"/>
                      <a:pt x="1544" y="392"/>
                    </a:cubicBezTo>
                    <a:cubicBezTo>
                      <a:pt x="1504" y="368"/>
                      <a:pt x="1488" y="232"/>
                      <a:pt x="1448" y="200"/>
                    </a:cubicBezTo>
                    <a:cubicBezTo>
                      <a:pt x="1408" y="168"/>
                      <a:pt x="1344" y="208"/>
                      <a:pt x="1304" y="200"/>
                    </a:cubicBezTo>
                    <a:cubicBezTo>
                      <a:pt x="1264" y="192"/>
                      <a:pt x="1248" y="184"/>
                      <a:pt x="1208" y="152"/>
                    </a:cubicBezTo>
                    <a:cubicBezTo>
                      <a:pt x="1168" y="120"/>
                      <a:pt x="1112" y="16"/>
                      <a:pt x="1064" y="8"/>
                    </a:cubicBezTo>
                    <a:cubicBezTo>
                      <a:pt x="1016" y="0"/>
                      <a:pt x="968" y="96"/>
                      <a:pt x="920" y="104"/>
                    </a:cubicBezTo>
                    <a:cubicBezTo>
                      <a:pt x="872" y="112"/>
                      <a:pt x="824" y="72"/>
                      <a:pt x="776" y="56"/>
                    </a:cubicBezTo>
                    <a:cubicBezTo>
                      <a:pt x="728" y="40"/>
                      <a:pt x="696" y="0"/>
                      <a:pt x="632" y="8"/>
                    </a:cubicBezTo>
                    <a:cubicBezTo>
                      <a:pt x="568" y="16"/>
                      <a:pt x="440" y="80"/>
                      <a:pt x="392" y="104"/>
                    </a:cubicBezTo>
                    <a:cubicBezTo>
                      <a:pt x="344" y="128"/>
                      <a:pt x="384" y="144"/>
                      <a:pt x="344" y="152"/>
                    </a:cubicBezTo>
                    <a:cubicBezTo>
                      <a:pt x="304" y="160"/>
                      <a:pt x="192" y="128"/>
                      <a:pt x="152" y="152"/>
                    </a:cubicBezTo>
                    <a:cubicBezTo>
                      <a:pt x="112" y="176"/>
                      <a:pt x="112" y="256"/>
                      <a:pt x="104" y="296"/>
                    </a:cubicBezTo>
                    <a:cubicBezTo>
                      <a:pt x="96" y="336"/>
                      <a:pt x="120" y="352"/>
                      <a:pt x="104" y="392"/>
                    </a:cubicBezTo>
                    <a:cubicBezTo>
                      <a:pt x="88" y="432"/>
                      <a:pt x="16" y="504"/>
                      <a:pt x="8" y="536"/>
                    </a:cubicBezTo>
                    <a:cubicBezTo>
                      <a:pt x="0" y="568"/>
                      <a:pt x="40" y="560"/>
                      <a:pt x="56" y="584"/>
                    </a:cubicBezTo>
                    <a:cubicBezTo>
                      <a:pt x="72" y="608"/>
                      <a:pt x="88" y="632"/>
                      <a:pt x="104" y="680"/>
                    </a:cubicBezTo>
                    <a:cubicBezTo>
                      <a:pt x="120" y="728"/>
                      <a:pt x="120" y="856"/>
                      <a:pt x="152" y="872"/>
                    </a:cubicBezTo>
                    <a:cubicBezTo>
                      <a:pt x="184" y="888"/>
                      <a:pt x="272" y="768"/>
                      <a:pt x="296" y="776"/>
                    </a:cubicBezTo>
                    <a:cubicBezTo>
                      <a:pt x="320" y="784"/>
                      <a:pt x="256" y="912"/>
                      <a:pt x="296" y="920"/>
                    </a:cubicBezTo>
                    <a:cubicBezTo>
                      <a:pt x="336" y="928"/>
                      <a:pt x="488" y="832"/>
                      <a:pt x="536" y="824"/>
                    </a:cubicBezTo>
                    <a:cubicBezTo>
                      <a:pt x="584" y="816"/>
                      <a:pt x="544" y="872"/>
                      <a:pt x="584" y="872"/>
                    </a:cubicBezTo>
                    <a:cubicBezTo>
                      <a:pt x="624" y="872"/>
                      <a:pt x="728" y="832"/>
                      <a:pt x="776" y="824"/>
                    </a:cubicBezTo>
                    <a:cubicBezTo>
                      <a:pt x="824" y="816"/>
                      <a:pt x="840" y="816"/>
                      <a:pt x="872" y="824"/>
                    </a:cubicBezTo>
                    <a:cubicBezTo>
                      <a:pt x="904" y="832"/>
                      <a:pt x="928" y="880"/>
                      <a:pt x="968" y="872"/>
                    </a:cubicBezTo>
                    <a:cubicBezTo>
                      <a:pt x="1008" y="864"/>
                      <a:pt x="1072" y="776"/>
                      <a:pt x="1112" y="776"/>
                    </a:cubicBezTo>
                    <a:cubicBezTo>
                      <a:pt x="1152" y="776"/>
                      <a:pt x="1168" y="864"/>
                      <a:pt x="1208" y="872"/>
                    </a:cubicBezTo>
                    <a:cubicBezTo>
                      <a:pt x="1248" y="880"/>
                      <a:pt x="1312" y="816"/>
                      <a:pt x="1352" y="824"/>
                    </a:cubicBezTo>
                    <a:cubicBezTo>
                      <a:pt x="1392" y="832"/>
                      <a:pt x="1408" y="912"/>
                      <a:pt x="1448" y="920"/>
                    </a:cubicBezTo>
                    <a:cubicBezTo>
                      <a:pt x="1488" y="928"/>
                      <a:pt x="1536" y="896"/>
                      <a:pt x="1592" y="872"/>
                    </a:cubicBezTo>
                    <a:cubicBezTo>
                      <a:pt x="1648" y="848"/>
                      <a:pt x="1720" y="792"/>
                      <a:pt x="1784" y="776"/>
                    </a:cubicBezTo>
                    <a:cubicBezTo>
                      <a:pt x="1848" y="760"/>
                      <a:pt x="1920" y="768"/>
                      <a:pt x="1976" y="776"/>
                    </a:cubicBezTo>
                    <a:cubicBezTo>
                      <a:pt x="2032" y="784"/>
                      <a:pt x="2096" y="832"/>
                      <a:pt x="2120" y="824"/>
                    </a:cubicBezTo>
                  </a:path>
                </a:pathLst>
              </a:custGeom>
              <a:solidFill>
                <a:srgbClr val="ddf2ff"/>
              </a:solidFill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990720" y="167652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Trenuleţul    Thomas a ajuns în staţia clasei I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tree"/>
            <p:cNvPicPr/>
            <p:nvPr/>
          </p:nvPicPr>
          <p:blipFill>
            <a:blip r:embed="rId8"/>
            <a:stretch/>
          </p:blipFill>
          <p:spPr>
            <a:xfrm>
              <a:off x="6781680" y="1905120"/>
              <a:ext cx="2048040" cy="4181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3 + 3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4 - 4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00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6 + 3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7 - 6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6 - 4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5 + ? = 7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8 - ? = 7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2 + ? = 8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14600" y="4572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3 + ? = 7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4"/>
          </p:cNvPr>
          <p:cNvSpPr/>
          <p:nvPr/>
        </p:nvSpPr>
        <p:spPr>
          <a:xfrm>
            <a:off x="2514600" y="44956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10 - ? = 3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57200" y="533520"/>
            <a:ext cx="4114800" cy="5790960"/>
            <a:chOff x="457200" y="533520"/>
            <a:chExt cx="4114800" cy="5790960"/>
          </a:xfrm>
        </p:grpSpPr>
        <p:sp>
          <p:nvSpPr>
            <p:cNvPr id="55" name="Document"/>
            <p:cNvSpPr/>
            <p:nvPr/>
          </p:nvSpPr>
          <p:spPr>
            <a:xfrm>
              <a:off x="457200" y="533520"/>
              <a:ext cx="4114800" cy="57909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Ştiţi că Thomas va fi alături de voi pe tot parcursul anului şcolar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El aşteaptă să-l ajutaţi să meargă mai departe, pentru a putea ajunge cu bine în staţia clasei a II-a. Pentru aceasta, trebuie să fiţi harnici şi să rezolvaţi corect orice exerciţiu de adunare sau scădere şi toate problemele propuse, să citiţi şi să scrieţi corect.                            Thomas vă urează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mult succes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2666880" y="5417640"/>
              <a:ext cx="1371600" cy="6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733560" y="5556960"/>
              <a:ext cx="152640" cy="1393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99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106080"/>
              <a:ext cx="253800" cy="24300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3543840"/>
              <a:ext cx="253800" cy="24300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81600"/>
              <a:ext cx="253800" cy="24300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0"/>
              <a:ext cx="296280" cy="29602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0"/>
              <a:ext cx="4572000" cy="2836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47720" y="3894840"/>
              <a:ext cx="296280" cy="2963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47720" y="2606040"/>
              <a:ext cx="296280" cy="267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47720" y="3043800"/>
              <a:ext cx="296280" cy="267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47720" y="3481560"/>
              <a:ext cx="296280" cy="267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6574320"/>
              <a:ext cx="4572000" cy="2836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572000" y="0"/>
            <a:ext cx="4572000" cy="304920"/>
          </a:xfrm>
          <a:prstGeom prst="rect">
            <a:avLst/>
          </a:prstGeom>
          <a:solidFill>
            <a:srgbClr val="ff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553080"/>
            <a:ext cx="45720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-1105200" y="5448240"/>
            <a:ext cx="25146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7733880" y="1104840"/>
            <a:ext cx="2514600" cy="304920"/>
          </a:xfrm>
          <a:prstGeom prst="rect">
            <a:avLst/>
          </a:prstGeom>
          <a:solidFill>
            <a:srgbClr val="ff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029200" y="1371600"/>
            <a:ext cx="3503520" cy="4457880"/>
            <a:chOff x="5029200" y="1371600"/>
            <a:chExt cx="3503520" cy="4457880"/>
          </a:xfrm>
        </p:grpSpPr>
        <p:grpSp>
          <p:nvGrpSpPr>
            <p:cNvPr id="75" name=""/>
            <p:cNvGrpSpPr/>
            <p:nvPr/>
          </p:nvGrpSpPr>
          <p:grpSpPr>
            <a:xfrm>
              <a:off x="5029200" y="1371600"/>
              <a:ext cx="3503520" cy="4457880"/>
              <a:chOff x="5029200" y="1371600"/>
              <a:chExt cx="3503520" cy="4457880"/>
            </a:xfrm>
          </p:grpSpPr>
          <p:pic>
            <p:nvPicPr>
              <p:cNvPr id="7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371600"/>
                <a:ext cx="3503520" cy="445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5333760" y="1523880"/>
                <a:ext cx="2742840" cy="12193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1082200">
                <a:off x="5406480" y="5256000"/>
                <a:ext cx="1520280" cy="4111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21028800">
                <a:off x="6781320" y="5105160"/>
                <a:ext cx="609120" cy="380880"/>
              </a:xfrm>
              <a:custGeom>
                <a:avLst/>
                <a:gdLst>
                  <a:gd name="textAreaLeft" fmla="*/ 133920 w 609120"/>
                  <a:gd name="textAreaRight" fmla="*/ 475200 w 609120"/>
                  <a:gd name="textAreaTop" fmla="*/ 83520 h 380880"/>
                  <a:gd name="textAreaBottom" fmla="*/ 29736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0800000">
                <a:off x="7162560" y="5105520"/>
                <a:ext cx="609120" cy="380880"/>
              </a:xfrm>
              <a:custGeom>
                <a:avLst/>
                <a:gdLst>
                  <a:gd name="textAreaLeft" fmla="*/ 133920 w 609120"/>
                  <a:gd name="textAreaRight" fmla="*/ 475200 w 609120"/>
                  <a:gd name="textAreaTop" fmla="*/ 83520 h 380880"/>
                  <a:gd name="textAreaBottom" fmla="*/ 29736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633600">
                <a:off x="7543080" y="5181480"/>
                <a:ext cx="609480" cy="381240"/>
              </a:xfrm>
              <a:custGeom>
                <a:avLst/>
                <a:gdLst>
                  <a:gd name="textAreaLeft" fmla="*/ 133920 w 609480"/>
                  <a:gd name="textAreaRight" fmla="*/ 475560 w 609480"/>
                  <a:gd name="textAreaTop" fmla="*/ 83880 h 381240"/>
                  <a:gd name="textAreaBottom" fmla="*/ 29736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5714640" y="1676520"/>
                <a:ext cx="2057040" cy="91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cc"/>
                      </a:solidFill>
                      <a:miter/>
                    </a:ln>
                    <a:solidFill>
                      <a:srgbClr val="000080"/>
                    </a:solidFill>
                    <a:effectLst>
                      <a:outerShdw dist="17819" dir="2700000" blurRad="0" rotWithShape="0">
                        <a:srgbClr val="868686"/>
                      </a:outerShdw>
                    </a:effectLst>
                    <a:latin typeface="Comic Sans MS"/>
                  </a:rPr>
                  <a:t>Ajutaţi-l pe </a:t>
                </a:r>
                <a:endParaRPr b="1" lang="en-US" sz="2400" spc="1" strike="noStrike">
                  <a:ln w="9360">
                    <a:solidFill>
                      <a:srgbClr val="ffffcc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Comic Sans MS"/>
                  <a:ea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cc"/>
                      </a:solidFill>
                      <a:miter/>
                    </a:ln>
                    <a:solidFill>
                      <a:srgbClr val="000080"/>
                    </a:solidFill>
                    <a:effectLst>
                      <a:outerShdw dist="17819" dir="2700000" blurRad="0" rotWithShape="0">
                        <a:srgbClr val="868686"/>
                      </a:outerShdw>
                    </a:effectLst>
                    <a:latin typeface="Comic Sans MS"/>
                  </a:rPr>
                  <a:t>Thomas să poată</a:t>
                </a:r>
                <a:endParaRPr b="1" lang="en-US" sz="2400" spc="1" strike="noStrike">
                  <a:ln w="9360">
                    <a:solidFill>
                      <a:srgbClr val="ffffcc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Comic Sans MS"/>
                  <a:ea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cc"/>
                      </a:solidFill>
                      <a:miter/>
                    </a:ln>
                    <a:solidFill>
                      <a:srgbClr val="000080"/>
                    </a:solidFill>
                    <a:effectLst>
                      <a:outerShdw dist="17819" dir="2700000" blurRad="0" rotWithShape="0">
                        <a:srgbClr val="868686"/>
                      </a:outerShdw>
                    </a:effectLst>
                    <a:latin typeface="Comic Sans MS"/>
                  </a:rPr>
                  <a:t>înainta!</a:t>
                </a:r>
                <a:endParaRPr b="1" lang="en-US" sz="2400" spc="1" strike="noStrike">
                  <a:ln w="9360">
                    <a:solidFill>
                      <a:srgbClr val="ffffcc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Comic Sans MS"/>
                  <a:ea typeface="Comic Sans MS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 rot="21270000">
                <a:off x="5790600" y="5105520"/>
                <a:ext cx="2047680" cy="47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2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ffffcc"/>
                    </a:solidFill>
                    <a:latin typeface="Comic Sans MS"/>
                  </a:rPr>
                  <a:t>Mult succes!</a:t>
                </a:r>
                <a:endParaRPr b="1" lang="en-US" sz="24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ffffcc"/>
                  </a:solidFill>
                  <a:latin typeface="Comic Sans MS"/>
                  <a:ea typeface="Comic Sans MS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8001000" y="1600200"/>
              <a:ext cx="228600" cy="15228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4"/>
          </p:cNvPr>
          <p:cNvSpPr/>
          <p:nvPr/>
        </p:nvSpPr>
        <p:spPr>
          <a:xfrm>
            <a:off x="243828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? + 4 = 9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nextslide"/>
            <a:hlinkClick r:id="rId4"/>
          </p:cNvPr>
          <p:cNvSpPr/>
          <p:nvPr/>
        </p:nvSpPr>
        <p:spPr>
          <a:xfrm>
            <a:off x="243828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? - 3 = 4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? + 2 = 9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? - 3 = 1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3124080"/>
            <a:ext cx="914400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 rot="311400">
            <a:off x="990720" y="2514240"/>
            <a:ext cx="3448080" cy="359100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2362320" y="380880"/>
            <a:ext cx="4495680" cy="1981080"/>
            <a:chOff x="2362320" y="380880"/>
            <a:chExt cx="4495680" cy="1981080"/>
          </a:xfrm>
        </p:grpSpPr>
        <p:grpSp>
          <p:nvGrpSpPr>
            <p:cNvPr id="341" name=""/>
            <p:cNvGrpSpPr/>
            <p:nvPr/>
          </p:nvGrpSpPr>
          <p:grpSpPr>
            <a:xfrm>
              <a:off x="2362320" y="380880"/>
              <a:ext cx="4495680" cy="1981080"/>
              <a:chOff x="2362320" y="380880"/>
              <a:chExt cx="4495680" cy="1981080"/>
            </a:xfrm>
          </p:grpSpPr>
          <p:sp>
            <p:nvSpPr>
              <p:cNvPr id="342" name=""/>
              <p:cNvSpPr/>
              <p:nvPr/>
            </p:nvSpPr>
            <p:spPr>
              <a:xfrm>
                <a:off x="2362320" y="380880"/>
                <a:ext cx="4495680" cy="4953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62320" y="876240"/>
                <a:ext cx="4495680" cy="49500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62320" y="1371240"/>
                <a:ext cx="4495680" cy="495360"/>
              </a:xfrm>
              <a:prstGeom prst="rect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62320" y="1866600"/>
                <a:ext cx="4495680" cy="495360"/>
              </a:xfrm>
              <a:prstGeom prst="rect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2362320" y="380880"/>
              <a:ext cx="4495680" cy="1981080"/>
            </a:xfrm>
            <a:prstGeom prst="rect">
              <a:avLst/>
            </a:prstGeom>
            <a:noFill/>
            <a:ln w="12708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3048120" y="685800"/>
              <a:ext cx="313380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Suntem mici,</a:t>
              </a:r>
              <a:endParaRPr b="0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dar ştim </a:t>
              </a:r>
              <a:endParaRPr b="0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şi să rezolvăm probleme!</a:t>
              </a:r>
              <a:endParaRPr b="0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2514600" y="609480"/>
              <a:ext cx="60984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" descr=""/>
          <p:cNvPicPr/>
          <p:nvPr/>
        </p:nvPicPr>
        <p:blipFill>
          <a:blip r:embed="rId9"/>
          <a:stretch/>
        </p:blipFill>
        <p:spPr>
          <a:xfrm rot="237000">
            <a:off x="5029200" y="2438280"/>
            <a:ext cx="3448080" cy="3591000"/>
          </a:xfrm>
          <a:prstGeom prst="rect">
            <a:avLst/>
          </a:prstGeom>
          <a:ln w="0">
            <a:noFill/>
          </a:ln>
        </p:spPr>
      </p:pic>
      <p:grpSp>
        <p:nvGrpSpPr>
          <p:cNvPr id="350" name=""/>
          <p:cNvGrpSpPr/>
          <p:nvPr/>
        </p:nvGrpSpPr>
        <p:grpSpPr>
          <a:xfrm>
            <a:off x="0" y="0"/>
            <a:ext cx="2143080" cy="2400480"/>
            <a:chOff x="0" y="0"/>
            <a:chExt cx="2143080" cy="2400480"/>
          </a:xfrm>
        </p:grpSpPr>
        <p:pic>
          <p:nvPicPr>
            <p:cNvPr id="351" name="" descr="Houseplant on Window Sill Clipart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2143080" cy="240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2" name=""/>
            <p:cNvGrpSpPr/>
            <p:nvPr/>
          </p:nvGrpSpPr>
          <p:grpSpPr>
            <a:xfrm>
              <a:off x="304920" y="76320"/>
              <a:ext cx="1523520" cy="304920"/>
              <a:chOff x="304920" y="76320"/>
              <a:chExt cx="1523520" cy="304920"/>
            </a:xfrm>
          </p:grpSpPr>
          <p:pic>
            <p:nvPicPr>
              <p:cNvPr id="35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4920" y="76320"/>
                <a:ext cx="41040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15320" y="76320"/>
                <a:ext cx="41004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67040" y="76320"/>
                <a:ext cx="41004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418400" y="76320"/>
                <a:ext cx="41004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7" name=""/>
            <p:cNvGrpSpPr/>
            <p:nvPr/>
          </p:nvGrpSpPr>
          <p:grpSpPr>
            <a:xfrm>
              <a:off x="152640" y="76320"/>
              <a:ext cx="304560" cy="1752120"/>
              <a:chOff x="152640" y="76320"/>
              <a:chExt cx="304560" cy="1752120"/>
            </a:xfrm>
          </p:grpSpPr>
          <p:pic>
            <p:nvPicPr>
              <p:cNvPr id="358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68760" y="159840"/>
                <a:ext cx="4719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69120" y="632160"/>
                <a:ext cx="47160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9120" y="1036080"/>
                <a:ext cx="47160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69120" y="1440360"/>
                <a:ext cx="47160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2" name=""/>
            <p:cNvGrpSpPr/>
            <p:nvPr/>
          </p:nvGrpSpPr>
          <p:grpSpPr>
            <a:xfrm>
              <a:off x="1676520" y="76320"/>
              <a:ext cx="304920" cy="1752120"/>
              <a:chOff x="1676520" y="76320"/>
              <a:chExt cx="304920" cy="1752120"/>
            </a:xfrm>
          </p:grpSpPr>
          <p:pic>
            <p:nvPicPr>
              <p:cNvPr id="363" name="" descr=""/>
              <p:cNvPicPr/>
              <p:nvPr/>
            </p:nvPicPr>
            <p:blipFill>
              <a:blip r:embed="rId19"/>
              <a:stretch/>
            </p:blipFill>
            <p:spPr>
              <a:xfrm flipH="1" rot="16200000">
                <a:off x="1593000" y="159840"/>
                <a:ext cx="4719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1593000" y="631440"/>
                <a:ext cx="47160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21"/>
              <a:stretch/>
            </p:blipFill>
            <p:spPr>
              <a:xfrm flipH="1" rot="16200000">
                <a:off x="1593000" y="1035720"/>
                <a:ext cx="47160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22"/>
              <a:stretch/>
            </p:blipFill>
            <p:spPr>
              <a:xfrm flipH="1" rot="16200000">
                <a:off x="1593000" y="1440000"/>
                <a:ext cx="47160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7" name=""/>
          <p:cNvGrpSpPr/>
          <p:nvPr/>
        </p:nvGrpSpPr>
        <p:grpSpPr>
          <a:xfrm>
            <a:off x="7000920" y="0"/>
            <a:ext cx="2143080" cy="2400480"/>
            <a:chOff x="7000920" y="0"/>
            <a:chExt cx="2143080" cy="2400480"/>
          </a:xfrm>
        </p:grpSpPr>
        <p:pic>
          <p:nvPicPr>
            <p:cNvPr id="368" name="" descr="Houseplant on Window Sill Clipart"/>
            <p:cNvPicPr/>
            <p:nvPr/>
          </p:nvPicPr>
          <p:blipFill>
            <a:blip r:embed="rId23"/>
            <a:stretch/>
          </p:blipFill>
          <p:spPr>
            <a:xfrm>
              <a:off x="7000920" y="0"/>
              <a:ext cx="2143080" cy="240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9" name=""/>
            <p:cNvGrpSpPr/>
            <p:nvPr/>
          </p:nvGrpSpPr>
          <p:grpSpPr>
            <a:xfrm>
              <a:off x="7305840" y="76320"/>
              <a:ext cx="1523520" cy="304920"/>
              <a:chOff x="7305840" y="76320"/>
              <a:chExt cx="1523520" cy="304920"/>
            </a:xfrm>
          </p:grpSpPr>
          <p:pic>
            <p:nvPicPr>
              <p:cNvPr id="37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305840" y="76320"/>
                <a:ext cx="41040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716240" y="76320"/>
                <a:ext cx="41004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8067960" y="76320"/>
                <a:ext cx="41004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419320" y="76320"/>
                <a:ext cx="41004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4" name=""/>
            <p:cNvGrpSpPr/>
            <p:nvPr/>
          </p:nvGrpSpPr>
          <p:grpSpPr>
            <a:xfrm>
              <a:off x="7153560" y="76320"/>
              <a:ext cx="304560" cy="1752120"/>
              <a:chOff x="7153560" y="76320"/>
              <a:chExt cx="304560" cy="1752120"/>
            </a:xfrm>
          </p:grpSpPr>
          <p:pic>
            <p:nvPicPr>
              <p:cNvPr id="375" name="" descr=""/>
              <p:cNvPicPr/>
              <p:nvPr/>
            </p:nvPicPr>
            <p:blipFill>
              <a:blip r:embed="rId28"/>
              <a:stretch/>
            </p:blipFill>
            <p:spPr>
              <a:xfrm rot="5400000">
                <a:off x="7069680" y="159840"/>
                <a:ext cx="4719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" descr=""/>
              <p:cNvPicPr/>
              <p:nvPr/>
            </p:nvPicPr>
            <p:blipFill>
              <a:blip r:embed="rId29"/>
              <a:stretch/>
            </p:blipFill>
            <p:spPr>
              <a:xfrm rot="5400000">
                <a:off x="7070040" y="631800"/>
                <a:ext cx="47160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" descr=""/>
              <p:cNvPicPr/>
              <p:nvPr/>
            </p:nvPicPr>
            <p:blipFill>
              <a:blip r:embed="rId30"/>
              <a:stretch/>
            </p:blipFill>
            <p:spPr>
              <a:xfrm rot="5400000">
                <a:off x="7070040" y="1036080"/>
                <a:ext cx="47160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31"/>
              <a:stretch/>
            </p:blipFill>
            <p:spPr>
              <a:xfrm rot="5400000">
                <a:off x="7070040" y="1440360"/>
                <a:ext cx="47160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8677440" y="76320"/>
              <a:ext cx="304920" cy="1752120"/>
              <a:chOff x="8677440" y="76320"/>
              <a:chExt cx="304920" cy="1752120"/>
            </a:xfrm>
          </p:grpSpPr>
          <p:pic>
            <p:nvPicPr>
              <p:cNvPr id="380" name="" descr=""/>
              <p:cNvPicPr/>
              <p:nvPr/>
            </p:nvPicPr>
            <p:blipFill>
              <a:blip r:embed="rId32"/>
              <a:stretch/>
            </p:blipFill>
            <p:spPr>
              <a:xfrm flipH="1" rot="16200000">
                <a:off x="8593920" y="159840"/>
                <a:ext cx="4719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33"/>
              <a:stretch/>
            </p:blipFill>
            <p:spPr>
              <a:xfrm rot="16200000">
                <a:off x="8593920" y="631440"/>
                <a:ext cx="47160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34"/>
              <a:stretch/>
            </p:blipFill>
            <p:spPr>
              <a:xfrm flipH="1" rot="16200000">
                <a:off x="8593920" y="1035720"/>
                <a:ext cx="47160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35"/>
              <a:stretch/>
            </p:blipFill>
            <p:spPr>
              <a:xfrm flipH="1" rot="16200000">
                <a:off x="8593920" y="1440000"/>
                <a:ext cx="47160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385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În faţa cuştii au fost 7 câini. Unul din ei pleacă. Câţi câini mai rămâ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1828800"/>
            <a:ext cx="1600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5 câi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7 câi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6 câi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câ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209680" y="1752480"/>
            <a:ext cx="1905120" cy="17240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4495680" y="2971800"/>
            <a:ext cx="895320" cy="6951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 flipH="1">
            <a:off x="2133720" y="2743200"/>
            <a:ext cx="2286000" cy="1390680"/>
          </a:xfrm>
          <a:prstGeom prst="rect">
            <a:avLst/>
          </a:prstGeom>
          <a:ln w="0">
            <a:noFill/>
          </a:ln>
        </p:spPr>
      </p:pic>
      <p:sp>
        <p:nvSpPr>
          <p:cNvPr id="392" name="">
            <a:hlinkClick r:id="" action="ppaction://hlinkshowjump?jump=nextslide"/>
            <a:hlinkClick r:id="rId6"/>
          </p:cNvPr>
          <p:cNvSpPr/>
          <p:nvPr/>
        </p:nvSpPr>
        <p:spPr>
          <a:xfrm>
            <a:off x="5486400" y="27432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7"/>
          </p:cNvPr>
          <p:cNvSpPr/>
          <p:nvPr/>
        </p:nvSpPr>
        <p:spPr>
          <a:xfrm>
            <a:off x="5410080" y="182880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8"/>
          </p:cNvPr>
          <p:cNvSpPr/>
          <p:nvPr/>
        </p:nvSpPr>
        <p:spPr>
          <a:xfrm>
            <a:off x="5410080" y="228600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9"/>
          </p:cNvPr>
          <p:cNvSpPr/>
          <p:nvPr/>
        </p:nvSpPr>
        <p:spPr>
          <a:xfrm>
            <a:off x="5410080" y="32767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7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415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209680" y="1143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Într-un ţarc sunt 4 cai. Câţi cai vor fi, dacă mai vin 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1828800"/>
            <a:ext cx="1676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6 ca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 ca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5 ca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7 c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OWLING/gif_horse.gif"/>
          <p:cNvPicPr/>
          <p:nvPr/>
        </p:nvPicPr>
        <p:blipFill>
          <a:blip r:embed="rId3"/>
          <a:stretch/>
        </p:blipFill>
        <p:spPr>
          <a:xfrm>
            <a:off x="2666880" y="1905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2362320" y="2133720"/>
            <a:ext cx="761760" cy="657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2362320" y="2514600"/>
            <a:ext cx="761760" cy="657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6"/>
          <a:stretch/>
        </p:blipFill>
        <p:spPr>
          <a:xfrm>
            <a:off x="2438280" y="2895480"/>
            <a:ext cx="762120" cy="657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7"/>
          <a:stretch/>
        </p:blipFill>
        <p:spPr>
          <a:xfrm>
            <a:off x="4038480" y="2286000"/>
            <a:ext cx="1067040" cy="7621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8"/>
          <a:stretch/>
        </p:blipFill>
        <p:spPr>
          <a:xfrm>
            <a:off x="3962520" y="2590920"/>
            <a:ext cx="1066680" cy="76176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rId9"/>
          </p:cNvPr>
          <p:cNvSpPr/>
          <p:nvPr/>
        </p:nvSpPr>
        <p:spPr>
          <a:xfrm>
            <a:off x="5105520" y="2286000"/>
            <a:ext cx="1295280" cy="38088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07" h="21600">
                <a:moveTo>
                  <a:pt x="0" y="0"/>
                </a:moveTo>
                <a:lnTo>
                  <a:pt x="73407" y="0"/>
                </a:lnTo>
                <a:lnTo>
                  <a:pt x="73407" y="21600"/>
                </a:lnTo>
                <a:lnTo>
                  <a:pt x="0" y="21600"/>
                </a:lnTo>
                <a:close/>
              </a:path>
              <a:path fill="lightenLess" w="73407" h="21600">
                <a:moveTo>
                  <a:pt x="0" y="0"/>
                </a:moveTo>
                <a:lnTo>
                  <a:pt x="73407" y="0"/>
                </a:lnTo>
                <a:lnTo>
                  <a:pt x="72007" y="1400"/>
                </a:lnTo>
                <a:lnTo>
                  <a:pt x="1400" y="1400"/>
                </a:lnTo>
                <a:close/>
              </a:path>
              <a:path fill="darken" w="73407" h="21600">
                <a:moveTo>
                  <a:pt x="73407" y="0"/>
                </a:moveTo>
                <a:lnTo>
                  <a:pt x="73407" y="21600"/>
                </a:lnTo>
                <a:lnTo>
                  <a:pt x="72007" y="20200"/>
                </a:lnTo>
                <a:lnTo>
                  <a:pt x="72007" y="1400"/>
                </a:lnTo>
                <a:close/>
              </a:path>
              <a:path fill="darkenLess" w="73407" h="21600">
                <a:moveTo>
                  <a:pt x="73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07" y="20200"/>
                </a:lnTo>
                <a:close/>
              </a:path>
              <a:path fill="lighten" w="73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10"/>
          </p:cNvPr>
          <p:cNvSpPr/>
          <p:nvPr/>
        </p:nvSpPr>
        <p:spPr>
          <a:xfrm>
            <a:off x="5105520" y="2743200"/>
            <a:ext cx="1295280" cy="38088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07" h="21600">
                <a:moveTo>
                  <a:pt x="0" y="0"/>
                </a:moveTo>
                <a:lnTo>
                  <a:pt x="73407" y="0"/>
                </a:lnTo>
                <a:lnTo>
                  <a:pt x="73407" y="21600"/>
                </a:lnTo>
                <a:lnTo>
                  <a:pt x="0" y="21600"/>
                </a:lnTo>
                <a:close/>
              </a:path>
              <a:path fill="lightenLess" w="73407" h="21600">
                <a:moveTo>
                  <a:pt x="0" y="0"/>
                </a:moveTo>
                <a:lnTo>
                  <a:pt x="73407" y="0"/>
                </a:lnTo>
                <a:lnTo>
                  <a:pt x="72007" y="1400"/>
                </a:lnTo>
                <a:lnTo>
                  <a:pt x="1400" y="1400"/>
                </a:lnTo>
                <a:close/>
              </a:path>
              <a:path fill="darken" w="73407" h="21600">
                <a:moveTo>
                  <a:pt x="73407" y="0"/>
                </a:moveTo>
                <a:lnTo>
                  <a:pt x="73407" y="21600"/>
                </a:lnTo>
                <a:lnTo>
                  <a:pt x="72007" y="20200"/>
                </a:lnTo>
                <a:lnTo>
                  <a:pt x="72007" y="1400"/>
                </a:lnTo>
                <a:close/>
              </a:path>
              <a:path fill="darkenLess" w="73407" h="21600">
                <a:moveTo>
                  <a:pt x="73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07" y="20200"/>
                </a:lnTo>
                <a:close/>
              </a:path>
              <a:path fill="lighten" w="73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11"/>
          </p:cNvPr>
          <p:cNvSpPr/>
          <p:nvPr/>
        </p:nvSpPr>
        <p:spPr>
          <a:xfrm>
            <a:off x="5181480" y="320040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" action="ppaction://hlinkshowjump?jump=nextslide"/>
            <a:hlinkClick r:id="rId12"/>
          </p:cNvPr>
          <p:cNvSpPr/>
          <p:nvPr/>
        </p:nvSpPr>
        <p:spPr>
          <a:xfrm>
            <a:off x="5105520" y="18288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0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Bunicul are 5 miei albi şi 3 miei negri. Câţi miei are bunicul în tot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05520" y="182880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5 mi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 mi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3 mi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 mi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3733920" y="1752480"/>
            <a:ext cx="533160" cy="5716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2362320" y="1752480"/>
            <a:ext cx="533160" cy="5716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71800" y="1752480"/>
            <a:ext cx="533520" cy="5716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666880" y="2971800"/>
            <a:ext cx="533520" cy="5716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2362320" y="2362320"/>
            <a:ext cx="533160" cy="5713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3048120" y="2362320"/>
            <a:ext cx="533160" cy="5713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9"/>
          <a:stretch/>
        </p:blipFill>
        <p:spPr>
          <a:xfrm>
            <a:off x="3733920" y="2362320"/>
            <a:ext cx="533160" cy="5713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0"/>
          <a:stretch/>
        </p:blipFill>
        <p:spPr>
          <a:xfrm>
            <a:off x="3581280" y="2971800"/>
            <a:ext cx="533520" cy="57168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  <a:hlinkClick r:id="rId11"/>
          </p:cNvPr>
          <p:cNvSpPr/>
          <p:nvPr/>
        </p:nvSpPr>
        <p:spPr>
          <a:xfrm>
            <a:off x="5105520" y="22860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12"/>
          </p:cNvPr>
          <p:cNvSpPr/>
          <p:nvPr/>
        </p:nvSpPr>
        <p:spPr>
          <a:xfrm>
            <a:off x="5105520" y="1828800"/>
            <a:ext cx="1295280" cy="38088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07" h="21600">
                <a:moveTo>
                  <a:pt x="0" y="0"/>
                </a:moveTo>
                <a:lnTo>
                  <a:pt x="73407" y="0"/>
                </a:lnTo>
                <a:lnTo>
                  <a:pt x="73407" y="21600"/>
                </a:lnTo>
                <a:lnTo>
                  <a:pt x="0" y="21600"/>
                </a:lnTo>
                <a:close/>
              </a:path>
              <a:path fill="lightenLess" w="73407" h="21600">
                <a:moveTo>
                  <a:pt x="0" y="0"/>
                </a:moveTo>
                <a:lnTo>
                  <a:pt x="73407" y="0"/>
                </a:lnTo>
                <a:lnTo>
                  <a:pt x="72007" y="1400"/>
                </a:lnTo>
                <a:lnTo>
                  <a:pt x="1400" y="1400"/>
                </a:lnTo>
                <a:close/>
              </a:path>
              <a:path fill="darken" w="73407" h="21600">
                <a:moveTo>
                  <a:pt x="73407" y="0"/>
                </a:moveTo>
                <a:lnTo>
                  <a:pt x="73407" y="21600"/>
                </a:lnTo>
                <a:lnTo>
                  <a:pt x="72007" y="20200"/>
                </a:lnTo>
                <a:lnTo>
                  <a:pt x="72007" y="1400"/>
                </a:lnTo>
                <a:close/>
              </a:path>
              <a:path fill="darkenLess" w="73407" h="21600">
                <a:moveTo>
                  <a:pt x="73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07" y="20200"/>
                </a:lnTo>
                <a:close/>
              </a:path>
              <a:path fill="lighten" w="73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13"/>
          </p:cNvPr>
          <p:cNvSpPr/>
          <p:nvPr/>
        </p:nvSpPr>
        <p:spPr>
          <a:xfrm>
            <a:off x="5105520" y="2819520"/>
            <a:ext cx="1295280" cy="38088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07" h="21600">
                <a:moveTo>
                  <a:pt x="0" y="0"/>
                </a:moveTo>
                <a:lnTo>
                  <a:pt x="73407" y="0"/>
                </a:lnTo>
                <a:lnTo>
                  <a:pt x="73407" y="21600"/>
                </a:lnTo>
                <a:lnTo>
                  <a:pt x="0" y="21600"/>
                </a:lnTo>
                <a:close/>
              </a:path>
              <a:path fill="lightenLess" w="73407" h="21600">
                <a:moveTo>
                  <a:pt x="0" y="0"/>
                </a:moveTo>
                <a:lnTo>
                  <a:pt x="73407" y="0"/>
                </a:lnTo>
                <a:lnTo>
                  <a:pt x="72007" y="1400"/>
                </a:lnTo>
                <a:lnTo>
                  <a:pt x="1400" y="1400"/>
                </a:lnTo>
                <a:close/>
              </a:path>
              <a:path fill="darken" w="73407" h="21600">
                <a:moveTo>
                  <a:pt x="73407" y="0"/>
                </a:moveTo>
                <a:lnTo>
                  <a:pt x="73407" y="21600"/>
                </a:lnTo>
                <a:lnTo>
                  <a:pt x="72007" y="20200"/>
                </a:lnTo>
                <a:lnTo>
                  <a:pt x="72007" y="1400"/>
                </a:lnTo>
                <a:close/>
              </a:path>
              <a:path fill="darkenLess" w="73407" h="21600">
                <a:moveTo>
                  <a:pt x="73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07" y="20200"/>
                </a:lnTo>
                <a:close/>
              </a:path>
              <a:path fill="lighten" w="73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rId14"/>
          </p:cNvPr>
          <p:cNvSpPr/>
          <p:nvPr/>
        </p:nvSpPr>
        <p:spPr>
          <a:xfrm>
            <a:off x="5029200" y="3200400"/>
            <a:ext cx="1295280" cy="38088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07" h="21600">
                <a:moveTo>
                  <a:pt x="0" y="0"/>
                </a:moveTo>
                <a:lnTo>
                  <a:pt x="73407" y="0"/>
                </a:lnTo>
                <a:lnTo>
                  <a:pt x="73407" y="21600"/>
                </a:lnTo>
                <a:lnTo>
                  <a:pt x="0" y="21600"/>
                </a:lnTo>
                <a:close/>
              </a:path>
              <a:path fill="lightenLess" w="73407" h="21600">
                <a:moveTo>
                  <a:pt x="0" y="0"/>
                </a:moveTo>
                <a:lnTo>
                  <a:pt x="73407" y="0"/>
                </a:lnTo>
                <a:lnTo>
                  <a:pt x="72007" y="1400"/>
                </a:lnTo>
                <a:lnTo>
                  <a:pt x="1400" y="1400"/>
                </a:lnTo>
                <a:close/>
              </a:path>
              <a:path fill="darken" w="73407" h="21600">
                <a:moveTo>
                  <a:pt x="73407" y="0"/>
                </a:moveTo>
                <a:lnTo>
                  <a:pt x="73407" y="21600"/>
                </a:lnTo>
                <a:lnTo>
                  <a:pt x="72007" y="20200"/>
                </a:lnTo>
                <a:lnTo>
                  <a:pt x="72007" y="1400"/>
                </a:lnTo>
                <a:close/>
              </a:path>
              <a:path fill="darkenLess" w="73407" h="21600">
                <a:moveTo>
                  <a:pt x="73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07" y="20200"/>
                </a:lnTo>
                <a:close/>
              </a:path>
              <a:path fill="lighten" w="73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483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Câţi purcei sunt în cocină, dacă 6 sunt albi şi 2 sunt negr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05520" y="182880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purc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7 purc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9 purc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 purc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2209680" y="2057400"/>
            <a:ext cx="2667240" cy="125748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rId4"/>
          </p:cNvPr>
          <p:cNvSpPr/>
          <p:nvPr/>
        </p:nvSpPr>
        <p:spPr>
          <a:xfrm>
            <a:off x="5105520" y="1828800"/>
            <a:ext cx="1447560" cy="380880"/>
          </a:xfrm>
          <a:custGeom>
            <a:avLst/>
            <a:gdLst>
              <a:gd name="textAreaLeft" fmla="*/ 24480 w 1447560"/>
              <a:gd name="textAreaRight" fmla="*/ 1423080 w 1447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35" h="21600">
                <a:moveTo>
                  <a:pt x="0" y="0"/>
                </a:moveTo>
                <a:lnTo>
                  <a:pt x="82035" y="0"/>
                </a:lnTo>
                <a:lnTo>
                  <a:pt x="82035" y="21600"/>
                </a:lnTo>
                <a:lnTo>
                  <a:pt x="0" y="21600"/>
                </a:lnTo>
                <a:close/>
              </a:path>
              <a:path fill="lightenLess" w="82035" h="21600">
                <a:moveTo>
                  <a:pt x="0" y="0"/>
                </a:moveTo>
                <a:lnTo>
                  <a:pt x="82035" y="0"/>
                </a:lnTo>
                <a:lnTo>
                  <a:pt x="80635" y="1400"/>
                </a:lnTo>
                <a:lnTo>
                  <a:pt x="1400" y="1400"/>
                </a:lnTo>
                <a:close/>
              </a:path>
              <a:path fill="darken" w="82035" h="21600">
                <a:moveTo>
                  <a:pt x="82035" y="0"/>
                </a:moveTo>
                <a:lnTo>
                  <a:pt x="82035" y="21600"/>
                </a:lnTo>
                <a:lnTo>
                  <a:pt x="80635" y="20200"/>
                </a:lnTo>
                <a:lnTo>
                  <a:pt x="80635" y="1400"/>
                </a:lnTo>
                <a:close/>
              </a:path>
              <a:path fill="darkenLess" w="82035" h="21600">
                <a:moveTo>
                  <a:pt x="82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35" y="20200"/>
                </a:lnTo>
                <a:close/>
              </a:path>
              <a:path fill="lighten" w="82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rId5"/>
          </p:cNvPr>
          <p:cNvSpPr/>
          <p:nvPr/>
        </p:nvSpPr>
        <p:spPr>
          <a:xfrm>
            <a:off x="5181480" y="2286000"/>
            <a:ext cx="1524240" cy="38088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80" h="21600">
                <a:moveTo>
                  <a:pt x="0" y="0"/>
                </a:moveTo>
                <a:lnTo>
                  <a:pt x="86380" y="0"/>
                </a:lnTo>
                <a:lnTo>
                  <a:pt x="86380" y="21600"/>
                </a:lnTo>
                <a:lnTo>
                  <a:pt x="0" y="21600"/>
                </a:lnTo>
                <a:close/>
              </a:path>
              <a:path fill="lightenLess" w="86380" h="21600">
                <a:moveTo>
                  <a:pt x="0" y="0"/>
                </a:moveTo>
                <a:lnTo>
                  <a:pt x="86380" y="0"/>
                </a:lnTo>
                <a:lnTo>
                  <a:pt x="84980" y="1400"/>
                </a:lnTo>
                <a:lnTo>
                  <a:pt x="1400" y="1400"/>
                </a:lnTo>
                <a:close/>
              </a:path>
              <a:path fill="darken" w="86380" h="21600">
                <a:moveTo>
                  <a:pt x="86380" y="0"/>
                </a:moveTo>
                <a:lnTo>
                  <a:pt x="86380" y="21600"/>
                </a:lnTo>
                <a:lnTo>
                  <a:pt x="84980" y="20200"/>
                </a:lnTo>
                <a:lnTo>
                  <a:pt x="84980" y="1400"/>
                </a:lnTo>
                <a:close/>
              </a:path>
              <a:path fill="darkenLess" w="86380" h="21600">
                <a:moveTo>
                  <a:pt x="86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0" y="20200"/>
                </a:lnTo>
                <a:close/>
              </a:path>
              <a:path fill="lighten" w="86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rId6"/>
          </p:cNvPr>
          <p:cNvSpPr/>
          <p:nvPr/>
        </p:nvSpPr>
        <p:spPr>
          <a:xfrm>
            <a:off x="5105520" y="27432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" action="ppaction://hlinkshowjump?jump=nextslide"/>
            <a:hlinkClick r:id="rId7"/>
          </p:cNvPr>
          <p:cNvSpPr/>
          <p:nvPr/>
        </p:nvSpPr>
        <p:spPr>
          <a:xfrm>
            <a:off x="5181480" y="32004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3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Pe o creangă erau 8 păsări. Câte mai sunt, dacă 3 dintre ele au zbur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05520" y="182880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6 păsă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păsă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5 păsă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9 păsă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2286000" y="198108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 flipH="1">
            <a:off x="3580920" y="1295280"/>
            <a:ext cx="1295640" cy="12574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 flipH="1">
            <a:off x="4038120" y="1600200"/>
            <a:ext cx="1295640" cy="12574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 flipH="1">
            <a:off x="4114800" y="2057400"/>
            <a:ext cx="1295280" cy="1257480"/>
          </a:xfrm>
          <a:prstGeom prst="rect">
            <a:avLst/>
          </a:prstGeom>
          <a:ln w="0">
            <a:noFill/>
          </a:ln>
        </p:spPr>
      </p:pic>
      <p:sp>
        <p:nvSpPr>
          <p:cNvPr id="519" name="">
            <a:hlinkClick r:id="" action="ppaction://hlinkshowjump?jump=nextslide"/>
            <a:hlinkClick r:id="rId7"/>
          </p:cNvPr>
          <p:cNvSpPr/>
          <p:nvPr/>
        </p:nvSpPr>
        <p:spPr>
          <a:xfrm>
            <a:off x="5181480" y="2743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8"/>
          </p:cNvPr>
          <p:cNvSpPr/>
          <p:nvPr/>
        </p:nvSpPr>
        <p:spPr>
          <a:xfrm>
            <a:off x="5105520" y="18288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rId9"/>
          </p:cNvPr>
          <p:cNvSpPr/>
          <p:nvPr/>
        </p:nvSpPr>
        <p:spPr>
          <a:xfrm>
            <a:off x="5105520" y="2286000"/>
            <a:ext cx="1447560" cy="380880"/>
          </a:xfrm>
          <a:custGeom>
            <a:avLst/>
            <a:gdLst>
              <a:gd name="textAreaLeft" fmla="*/ 24480 w 1447560"/>
              <a:gd name="textAreaRight" fmla="*/ 1423080 w 1447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35" h="21600">
                <a:moveTo>
                  <a:pt x="0" y="0"/>
                </a:moveTo>
                <a:lnTo>
                  <a:pt x="82035" y="0"/>
                </a:lnTo>
                <a:lnTo>
                  <a:pt x="82035" y="21600"/>
                </a:lnTo>
                <a:lnTo>
                  <a:pt x="0" y="21600"/>
                </a:lnTo>
                <a:close/>
              </a:path>
              <a:path fill="lightenLess" w="82035" h="21600">
                <a:moveTo>
                  <a:pt x="0" y="0"/>
                </a:moveTo>
                <a:lnTo>
                  <a:pt x="82035" y="0"/>
                </a:lnTo>
                <a:lnTo>
                  <a:pt x="80635" y="1400"/>
                </a:lnTo>
                <a:lnTo>
                  <a:pt x="1400" y="1400"/>
                </a:lnTo>
                <a:close/>
              </a:path>
              <a:path fill="darken" w="82035" h="21600">
                <a:moveTo>
                  <a:pt x="82035" y="0"/>
                </a:moveTo>
                <a:lnTo>
                  <a:pt x="82035" y="21600"/>
                </a:lnTo>
                <a:lnTo>
                  <a:pt x="80635" y="20200"/>
                </a:lnTo>
                <a:lnTo>
                  <a:pt x="80635" y="1400"/>
                </a:lnTo>
                <a:close/>
              </a:path>
              <a:path fill="darkenLess" w="82035" h="21600">
                <a:moveTo>
                  <a:pt x="82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35" y="20200"/>
                </a:lnTo>
                <a:close/>
              </a:path>
              <a:path fill="lighten" w="82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10"/>
          </p:cNvPr>
          <p:cNvSpPr/>
          <p:nvPr/>
        </p:nvSpPr>
        <p:spPr>
          <a:xfrm>
            <a:off x="5105520" y="3276720"/>
            <a:ext cx="1447560" cy="380880"/>
          </a:xfrm>
          <a:custGeom>
            <a:avLst/>
            <a:gdLst>
              <a:gd name="textAreaLeft" fmla="*/ 24480 w 1447560"/>
              <a:gd name="textAreaRight" fmla="*/ 1423080 w 1447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35" h="21600">
                <a:moveTo>
                  <a:pt x="0" y="0"/>
                </a:moveTo>
                <a:lnTo>
                  <a:pt x="82035" y="0"/>
                </a:lnTo>
                <a:lnTo>
                  <a:pt x="82035" y="21600"/>
                </a:lnTo>
                <a:lnTo>
                  <a:pt x="0" y="21600"/>
                </a:lnTo>
                <a:close/>
              </a:path>
              <a:path fill="lightenLess" w="82035" h="21600">
                <a:moveTo>
                  <a:pt x="0" y="0"/>
                </a:moveTo>
                <a:lnTo>
                  <a:pt x="82035" y="0"/>
                </a:lnTo>
                <a:lnTo>
                  <a:pt x="80635" y="1400"/>
                </a:lnTo>
                <a:lnTo>
                  <a:pt x="1400" y="1400"/>
                </a:lnTo>
                <a:close/>
              </a:path>
              <a:path fill="darken" w="82035" h="21600">
                <a:moveTo>
                  <a:pt x="82035" y="0"/>
                </a:moveTo>
                <a:lnTo>
                  <a:pt x="82035" y="21600"/>
                </a:lnTo>
                <a:lnTo>
                  <a:pt x="80635" y="20200"/>
                </a:lnTo>
                <a:lnTo>
                  <a:pt x="80635" y="1400"/>
                </a:lnTo>
                <a:close/>
              </a:path>
              <a:path fill="darkenLess" w="82035" h="21600">
                <a:moveTo>
                  <a:pt x="82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35" y="20200"/>
                </a:lnTo>
                <a:close/>
              </a:path>
              <a:path fill="lighten" w="82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nextslide"/>
            <a:hlinkClick r:id="rId11"/>
          </p:cNvPr>
          <p:cNvSpPr/>
          <p:nvPr/>
        </p:nvSpPr>
        <p:spPr>
          <a:xfrm>
            <a:off x="5105520" y="27432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5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3 + 2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543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Pe o frunză erau 6 melci. Câţi mai sunt, dacă 2 dintre ei au plec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81480" y="1752480"/>
            <a:ext cx="1752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 melc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7 melc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melc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5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mel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333880" cy="19904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2743200" y="2286000"/>
            <a:ext cx="952560" cy="6001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2895480" y="1752480"/>
            <a:ext cx="952560" cy="6001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3352680" y="2743200"/>
            <a:ext cx="952560" cy="600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7"/>
          <a:stretch/>
        </p:blipFill>
        <p:spPr>
          <a:xfrm>
            <a:off x="3429000" y="2133720"/>
            <a:ext cx="952560" cy="60012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8"/>
          <a:stretch/>
        </p:blipFill>
        <p:spPr>
          <a:xfrm flipH="1">
            <a:off x="4191120" y="1828800"/>
            <a:ext cx="761760" cy="5904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9"/>
          <a:stretch/>
        </p:blipFill>
        <p:spPr>
          <a:xfrm flipH="1">
            <a:off x="4419720" y="2286000"/>
            <a:ext cx="761760" cy="590400"/>
          </a:xfrm>
          <a:prstGeom prst="rect">
            <a:avLst/>
          </a:prstGeom>
          <a:ln w="0">
            <a:noFill/>
          </a:ln>
        </p:spPr>
      </p:pic>
      <p:sp>
        <p:nvSpPr>
          <p:cNvPr id="554" name="">
            <a:hlinkClick r:id="" action="ppaction://hlinkshowjump?jump=nextslide"/>
            <a:hlinkClick r:id="rId10"/>
          </p:cNvPr>
          <p:cNvSpPr/>
          <p:nvPr/>
        </p:nvSpPr>
        <p:spPr>
          <a:xfrm>
            <a:off x="5181480" y="2666880"/>
            <a:ext cx="1447920" cy="38124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1978" h="21600">
                <a:moveTo>
                  <a:pt x="0" y="0"/>
                </a:moveTo>
                <a:lnTo>
                  <a:pt x="81978" y="0"/>
                </a:lnTo>
                <a:lnTo>
                  <a:pt x="81978" y="21600"/>
                </a:lnTo>
                <a:lnTo>
                  <a:pt x="0" y="21600"/>
                </a:lnTo>
                <a:close/>
              </a:path>
              <a:path fill="lightenLess" w="81978" h="21600">
                <a:moveTo>
                  <a:pt x="0" y="0"/>
                </a:moveTo>
                <a:lnTo>
                  <a:pt x="81978" y="0"/>
                </a:lnTo>
                <a:lnTo>
                  <a:pt x="80578" y="1400"/>
                </a:lnTo>
                <a:lnTo>
                  <a:pt x="1400" y="1400"/>
                </a:lnTo>
                <a:close/>
              </a:path>
              <a:path fill="darken" w="81978" h="21600">
                <a:moveTo>
                  <a:pt x="81978" y="0"/>
                </a:moveTo>
                <a:lnTo>
                  <a:pt x="81978" y="21600"/>
                </a:lnTo>
                <a:lnTo>
                  <a:pt x="80578" y="20200"/>
                </a:lnTo>
                <a:lnTo>
                  <a:pt x="80578" y="1400"/>
                </a:lnTo>
                <a:close/>
              </a:path>
              <a:path fill="darkenLess" w="81978" h="21600">
                <a:moveTo>
                  <a:pt x="81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78" y="20200"/>
                </a:lnTo>
                <a:close/>
              </a:path>
              <a:path fill="lighten" w="81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rId11"/>
          </p:cNvPr>
          <p:cNvSpPr/>
          <p:nvPr/>
        </p:nvSpPr>
        <p:spPr>
          <a:xfrm>
            <a:off x="5105520" y="18288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>
            <a:hlinkClick r:id="rId12"/>
          </p:cNvPr>
          <p:cNvSpPr/>
          <p:nvPr/>
        </p:nvSpPr>
        <p:spPr>
          <a:xfrm>
            <a:off x="5181480" y="2209680"/>
            <a:ext cx="1524240" cy="38124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rId13"/>
          </p:cNvPr>
          <p:cNvSpPr/>
          <p:nvPr/>
        </p:nvSpPr>
        <p:spPr>
          <a:xfrm>
            <a:off x="5181480" y="3124080"/>
            <a:ext cx="1524240" cy="38124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9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577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2209680" y="914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O cloşcă are 5 puişori. 3 dintre ei pleacă în căutare de râme. Câţi puişori mai rămân lângă cloşc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81480" y="1752480"/>
            <a:ext cx="1752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3 puişo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 puişo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puişo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 puiş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2209680" y="1905120"/>
            <a:ext cx="1876680" cy="18716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Le poussin">
            <a:hlinkClick r:id="rId4"/>
          </p:cNvPr>
          <p:cNvPicPr/>
          <p:nvPr/>
        </p:nvPicPr>
        <p:blipFill>
          <a:blip r:embed="rId5"/>
          <a:stretch/>
        </p:blipFill>
        <p:spPr>
          <a:xfrm rot="20928600">
            <a:off x="3657600" y="2971440"/>
            <a:ext cx="457200" cy="5716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Le poussi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9880" y="2514600"/>
            <a:ext cx="381240" cy="4953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Le poussin">
            <a:hlinkClick r:id="rId8"/>
          </p:cNvPr>
          <p:cNvPicPr/>
          <p:nvPr/>
        </p:nvPicPr>
        <p:blipFill>
          <a:blip r:embed="rId9"/>
          <a:stretch/>
        </p:blipFill>
        <p:spPr>
          <a:xfrm rot="20295000">
            <a:off x="4129200" y="2830320"/>
            <a:ext cx="368280" cy="4950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10"/>
          <a:stretch/>
        </p:blipFill>
        <p:spPr>
          <a:xfrm rot="18824400">
            <a:off x="4152240" y="194292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586" name="">
            <a:hlinkClick r:id="rId11"/>
          </p:cNvPr>
          <p:cNvSpPr/>
          <p:nvPr/>
        </p:nvSpPr>
        <p:spPr>
          <a:xfrm>
            <a:off x="5105520" y="18288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rId12"/>
          </p:cNvPr>
          <p:cNvSpPr/>
          <p:nvPr/>
        </p:nvSpPr>
        <p:spPr>
          <a:xfrm>
            <a:off x="5181480" y="2209680"/>
            <a:ext cx="1524240" cy="38124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rId13"/>
          </p:cNvPr>
          <p:cNvSpPr/>
          <p:nvPr/>
        </p:nvSpPr>
        <p:spPr>
          <a:xfrm>
            <a:off x="5181480" y="2666880"/>
            <a:ext cx="1524240" cy="38124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" action="ppaction://hlinkshowjump?jump=nextslide"/>
            <a:hlinkClick r:id="rId14"/>
          </p:cNvPr>
          <p:cNvSpPr/>
          <p:nvPr/>
        </p:nvSpPr>
        <p:spPr>
          <a:xfrm>
            <a:off x="5181480" y="3124080"/>
            <a:ext cx="1447920" cy="38124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1978" h="21600">
                <a:moveTo>
                  <a:pt x="0" y="0"/>
                </a:moveTo>
                <a:lnTo>
                  <a:pt x="81978" y="0"/>
                </a:lnTo>
                <a:lnTo>
                  <a:pt x="81978" y="21600"/>
                </a:lnTo>
                <a:lnTo>
                  <a:pt x="0" y="21600"/>
                </a:lnTo>
                <a:close/>
              </a:path>
              <a:path fill="lightenLess" w="81978" h="21600">
                <a:moveTo>
                  <a:pt x="0" y="0"/>
                </a:moveTo>
                <a:lnTo>
                  <a:pt x="81978" y="0"/>
                </a:lnTo>
                <a:lnTo>
                  <a:pt x="80578" y="1400"/>
                </a:lnTo>
                <a:lnTo>
                  <a:pt x="1400" y="1400"/>
                </a:lnTo>
                <a:close/>
              </a:path>
              <a:path fill="darken" w="81978" h="21600">
                <a:moveTo>
                  <a:pt x="81978" y="0"/>
                </a:moveTo>
                <a:lnTo>
                  <a:pt x="81978" y="21600"/>
                </a:lnTo>
                <a:lnTo>
                  <a:pt x="80578" y="20200"/>
                </a:lnTo>
                <a:lnTo>
                  <a:pt x="80578" y="1400"/>
                </a:lnTo>
                <a:close/>
              </a:path>
              <a:path fill="darkenLess" w="81978" h="21600">
                <a:moveTo>
                  <a:pt x="81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78" y="20200"/>
                </a:lnTo>
                <a:close/>
              </a:path>
              <a:path fill="lighten" w="81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1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209680" y="914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În ograda bunicii sunt 6 gâşte. 3 dintre ele pleacă să caute papucii gânsacului. Câte gâşte mai rămân în ograd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181480" y="1905120"/>
            <a:ext cx="1752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3 gâş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 gâş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9 gâş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gâş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5909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5"/>
          <a:stretch/>
        </p:blipFill>
        <p:spPr>
          <a:xfrm>
            <a:off x="2209680" y="205740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14800" y="2514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81280" y="1981080"/>
            <a:ext cx="590760" cy="609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10"/>
          <a:stretch/>
        </p:blipFill>
        <p:spPr>
          <a:xfrm flipH="1">
            <a:off x="4343040" y="2057400"/>
            <a:ext cx="762120" cy="460440"/>
          </a:xfrm>
          <a:prstGeom prst="rect">
            <a:avLst/>
          </a:prstGeom>
          <a:ln w="0">
            <a:noFill/>
          </a:ln>
        </p:spPr>
      </p:pic>
      <p:sp>
        <p:nvSpPr>
          <p:cNvPr id="618" name="">
            <a:hlinkClick r:id="" action="ppaction://hlinkshowjump?jump=nextslide"/>
            <a:hlinkClick r:id="rId11"/>
          </p:cNvPr>
          <p:cNvSpPr/>
          <p:nvPr/>
        </p:nvSpPr>
        <p:spPr>
          <a:xfrm>
            <a:off x="5181480" y="19051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rId12"/>
          </p:cNvPr>
          <p:cNvSpPr/>
          <p:nvPr/>
        </p:nvSpPr>
        <p:spPr>
          <a:xfrm>
            <a:off x="5181480" y="2362320"/>
            <a:ext cx="1524240" cy="38088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80" h="21600">
                <a:moveTo>
                  <a:pt x="0" y="0"/>
                </a:moveTo>
                <a:lnTo>
                  <a:pt x="86380" y="0"/>
                </a:lnTo>
                <a:lnTo>
                  <a:pt x="86380" y="21600"/>
                </a:lnTo>
                <a:lnTo>
                  <a:pt x="0" y="21600"/>
                </a:lnTo>
                <a:close/>
              </a:path>
              <a:path fill="lightenLess" w="86380" h="21600">
                <a:moveTo>
                  <a:pt x="0" y="0"/>
                </a:moveTo>
                <a:lnTo>
                  <a:pt x="86380" y="0"/>
                </a:lnTo>
                <a:lnTo>
                  <a:pt x="84980" y="1400"/>
                </a:lnTo>
                <a:lnTo>
                  <a:pt x="1400" y="1400"/>
                </a:lnTo>
                <a:close/>
              </a:path>
              <a:path fill="darken" w="86380" h="21600">
                <a:moveTo>
                  <a:pt x="86380" y="0"/>
                </a:moveTo>
                <a:lnTo>
                  <a:pt x="86380" y="21600"/>
                </a:lnTo>
                <a:lnTo>
                  <a:pt x="84980" y="20200"/>
                </a:lnTo>
                <a:lnTo>
                  <a:pt x="84980" y="1400"/>
                </a:lnTo>
                <a:close/>
              </a:path>
              <a:path fill="darkenLess" w="86380" h="21600">
                <a:moveTo>
                  <a:pt x="86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0" y="20200"/>
                </a:lnTo>
                <a:close/>
              </a:path>
              <a:path fill="lighten" w="86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>
            <a:hlinkClick r:id="rId13"/>
          </p:cNvPr>
          <p:cNvSpPr/>
          <p:nvPr/>
        </p:nvSpPr>
        <p:spPr>
          <a:xfrm>
            <a:off x="5181480" y="2819520"/>
            <a:ext cx="1524240" cy="38088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80" h="21600">
                <a:moveTo>
                  <a:pt x="0" y="0"/>
                </a:moveTo>
                <a:lnTo>
                  <a:pt x="86380" y="0"/>
                </a:lnTo>
                <a:lnTo>
                  <a:pt x="86380" y="21600"/>
                </a:lnTo>
                <a:lnTo>
                  <a:pt x="0" y="21600"/>
                </a:lnTo>
                <a:close/>
              </a:path>
              <a:path fill="lightenLess" w="86380" h="21600">
                <a:moveTo>
                  <a:pt x="0" y="0"/>
                </a:moveTo>
                <a:lnTo>
                  <a:pt x="86380" y="0"/>
                </a:lnTo>
                <a:lnTo>
                  <a:pt x="84980" y="1400"/>
                </a:lnTo>
                <a:lnTo>
                  <a:pt x="1400" y="1400"/>
                </a:lnTo>
                <a:close/>
              </a:path>
              <a:path fill="darken" w="86380" h="21600">
                <a:moveTo>
                  <a:pt x="86380" y="0"/>
                </a:moveTo>
                <a:lnTo>
                  <a:pt x="86380" y="21600"/>
                </a:lnTo>
                <a:lnTo>
                  <a:pt x="84980" y="20200"/>
                </a:lnTo>
                <a:lnTo>
                  <a:pt x="84980" y="1400"/>
                </a:lnTo>
                <a:close/>
              </a:path>
              <a:path fill="darkenLess" w="86380" h="21600">
                <a:moveTo>
                  <a:pt x="86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0" y="20200"/>
                </a:lnTo>
                <a:close/>
              </a:path>
              <a:path fill="lighten" w="86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>
            <a:hlinkClick r:id="rId14"/>
          </p:cNvPr>
          <p:cNvSpPr/>
          <p:nvPr/>
        </p:nvSpPr>
        <p:spPr>
          <a:xfrm>
            <a:off x="5105520" y="32767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3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641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190960" cy="21333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3581280" y="2514600"/>
            <a:ext cx="990720" cy="11574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2209680" y="2666880"/>
            <a:ext cx="990720" cy="11574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19720" y="2895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Le poulet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76920" y="1828800"/>
            <a:ext cx="1238040" cy="12096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10"/>
          <a:stretch/>
        </p:blipFill>
        <p:spPr>
          <a:xfrm>
            <a:off x="5791320" y="2514600"/>
            <a:ext cx="790560" cy="1190520"/>
          </a:xfrm>
          <a:prstGeom prst="rect">
            <a:avLst/>
          </a:prstGeom>
          <a:ln w="0">
            <a:noFill/>
          </a:ln>
        </p:spPr>
      </p:pic>
      <p:sp>
        <p:nvSpPr>
          <p:cNvPr id="652" name="">
            <a:hlinkClick r:id="" action="ppaction://hlinkshowjump?jump=nextslide"/>
            <a:hlinkClick r:id="rId11"/>
          </p:cNvPr>
          <p:cNvSpPr/>
          <p:nvPr/>
        </p:nvSpPr>
        <p:spPr>
          <a:xfrm>
            <a:off x="25146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rId12"/>
          </p:cNvPr>
          <p:cNvSpPr/>
          <p:nvPr/>
        </p:nvSpPr>
        <p:spPr>
          <a:xfrm>
            <a:off x="5181480" y="11430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655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5" name="" descr="une pomme "/>
          <p:cNvPicPr/>
          <p:nvPr/>
        </p:nvPicPr>
        <p:blipFill>
          <a:blip r:embed="rId3"/>
          <a:stretch/>
        </p:blipFill>
        <p:spPr>
          <a:xfrm>
            <a:off x="2819520" y="2057400"/>
            <a:ext cx="1333440" cy="16668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4"/>
          <a:stretch/>
        </p:blipFill>
        <p:spPr>
          <a:xfrm>
            <a:off x="4419720" y="1828800"/>
            <a:ext cx="1676160" cy="16002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sp>
        <p:nvSpPr>
          <p:cNvPr id="680" name="">
            <a:hlinkClick r:id="" action="ppaction://hlinkshowjump?jump=nextslide"/>
            <a:hlinkClick r:id="rId5"/>
          </p:cNvPr>
          <p:cNvSpPr/>
          <p:nvPr/>
        </p:nvSpPr>
        <p:spPr>
          <a:xfrm>
            <a:off x="5334120" y="10666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>
            <a:hlinkClick r:id="rId6"/>
          </p:cNvPr>
          <p:cNvSpPr/>
          <p:nvPr/>
        </p:nvSpPr>
        <p:spPr>
          <a:xfrm>
            <a:off x="243828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683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701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2819520" y="213372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 rot="18586800">
            <a:off x="4561200" y="2067840"/>
            <a:ext cx="735120" cy="71424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5"/>
          <a:stretch/>
        </p:blipFill>
        <p:spPr>
          <a:xfrm rot="18586800">
            <a:off x="5400000" y="2143440"/>
            <a:ext cx="734760" cy="714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sp>
        <p:nvSpPr>
          <p:cNvPr id="709" name="">
            <a:hlinkClick r:id="" action="ppaction://hlinkshowjump?jump=nextslide"/>
            <a:hlinkClick r:id="rId6"/>
          </p:cNvPr>
          <p:cNvSpPr/>
          <p:nvPr/>
        </p:nvSpPr>
        <p:spPr>
          <a:xfrm>
            <a:off x="25146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>
            <a:hlinkClick r:id="rId7"/>
          </p:cNvPr>
          <p:cNvSpPr/>
          <p:nvPr/>
        </p:nvSpPr>
        <p:spPr>
          <a:xfrm>
            <a:off x="518148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712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>
            <a:off x="2362320" y="23623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4"/>
          <a:stretch/>
        </p:blipFill>
        <p:spPr>
          <a:xfrm>
            <a:off x="5334120" y="1981080"/>
            <a:ext cx="838080" cy="120996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5"/>
          <a:stretch/>
        </p:blipFill>
        <p:spPr>
          <a:xfrm>
            <a:off x="4114800" y="23623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738" name="">
            <a:hlinkClick r:id="" action="ppaction://hlinkshowjump?jump=nextslide"/>
            <a:hlinkClick r:id="rId6"/>
          </p:cNvPr>
          <p:cNvSpPr/>
          <p:nvPr/>
        </p:nvSpPr>
        <p:spPr>
          <a:xfrm>
            <a:off x="52578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>
            <a:hlinkClick r:id="rId7"/>
          </p:cNvPr>
          <p:cNvSpPr/>
          <p:nvPr/>
        </p:nvSpPr>
        <p:spPr>
          <a:xfrm>
            <a:off x="243828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741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759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pic>
        <p:nvPicPr>
          <p:cNvPr id="764" name="" descr="hedgehog.gif"/>
          <p:cNvPicPr/>
          <p:nvPr/>
        </p:nvPicPr>
        <p:blipFill>
          <a:blip r:embed="rId3"/>
          <a:stretch/>
        </p:blipFill>
        <p:spPr>
          <a:xfrm>
            <a:off x="5410080" y="213372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hedgehog.gif"/>
          <p:cNvPicPr/>
          <p:nvPr/>
        </p:nvPicPr>
        <p:blipFill>
          <a:blip r:embed="rId4"/>
          <a:stretch/>
        </p:blipFill>
        <p:spPr>
          <a:xfrm>
            <a:off x="5715000" y="2666880"/>
            <a:ext cx="571680" cy="40032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hedgehog.gif"/>
          <p:cNvPicPr/>
          <p:nvPr/>
        </p:nvPicPr>
        <p:blipFill>
          <a:blip r:embed="rId5"/>
          <a:stretch/>
        </p:blipFill>
        <p:spPr>
          <a:xfrm>
            <a:off x="2286000" y="2666880"/>
            <a:ext cx="571680" cy="40032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hedgehog.gif"/>
          <p:cNvPicPr/>
          <p:nvPr/>
        </p:nvPicPr>
        <p:blipFill>
          <a:blip r:embed="rId6"/>
          <a:stretch/>
        </p:blipFill>
        <p:spPr>
          <a:xfrm>
            <a:off x="2362320" y="2133720"/>
            <a:ext cx="571320" cy="39996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hedgehog.gif"/>
          <p:cNvPicPr/>
          <p:nvPr/>
        </p:nvPicPr>
        <p:blipFill>
          <a:blip r:embed="rId7"/>
          <a:stretch/>
        </p:blipFill>
        <p:spPr>
          <a:xfrm>
            <a:off x="2819520" y="3124080"/>
            <a:ext cx="571320" cy="40032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hedgehog.gif"/>
          <p:cNvPicPr/>
          <p:nvPr/>
        </p:nvPicPr>
        <p:blipFill>
          <a:blip r:embed="rId8"/>
          <a:stretch/>
        </p:blipFill>
        <p:spPr>
          <a:xfrm>
            <a:off x="3429000" y="205740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hedgehog.gif"/>
          <p:cNvPicPr/>
          <p:nvPr/>
        </p:nvPicPr>
        <p:blipFill>
          <a:blip r:embed="rId9"/>
          <a:stretch/>
        </p:blipFill>
        <p:spPr>
          <a:xfrm>
            <a:off x="3048120" y="2514600"/>
            <a:ext cx="571320" cy="39996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hedgehog.gif"/>
          <p:cNvPicPr/>
          <p:nvPr/>
        </p:nvPicPr>
        <p:blipFill>
          <a:blip r:embed="rId10"/>
          <a:stretch/>
        </p:blipFill>
        <p:spPr>
          <a:xfrm>
            <a:off x="3886200" y="251460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hedgehog.gif"/>
          <p:cNvPicPr/>
          <p:nvPr/>
        </p:nvPicPr>
        <p:blipFill>
          <a:blip r:embed="rId11"/>
          <a:stretch/>
        </p:blipFill>
        <p:spPr>
          <a:xfrm>
            <a:off x="3657600" y="3048120"/>
            <a:ext cx="571680" cy="399960"/>
          </a:xfrm>
          <a:prstGeom prst="rect">
            <a:avLst/>
          </a:prstGeom>
          <a:ln w="0">
            <a:noFill/>
          </a:ln>
        </p:spPr>
      </p:pic>
      <p:sp>
        <p:nvSpPr>
          <p:cNvPr id="773" name="">
            <a:hlinkClick r:id="" action="ppaction://hlinkshowjump?jump=nextslide"/>
            <a:hlinkClick r:id="rId12"/>
          </p:cNvPr>
          <p:cNvSpPr/>
          <p:nvPr/>
        </p:nvSpPr>
        <p:spPr>
          <a:xfrm>
            <a:off x="25146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>
            <a:hlinkClick r:id="rId13"/>
          </p:cNvPr>
          <p:cNvSpPr/>
          <p:nvPr/>
        </p:nvSpPr>
        <p:spPr>
          <a:xfrm>
            <a:off x="510552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776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794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3124080" y="1676520"/>
            <a:ext cx="2286000" cy="208584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4"/>
          <a:stretch/>
        </p:blipFill>
        <p:spPr>
          <a:xfrm flipH="1">
            <a:off x="5409720" y="1828800"/>
            <a:ext cx="638280" cy="71424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Ladybugs and Sunflower"/>
          <p:cNvPicPr/>
          <p:nvPr/>
        </p:nvPicPr>
        <p:blipFill>
          <a:blip r:embed="rId5"/>
          <a:stretch/>
        </p:blipFill>
        <p:spPr>
          <a:xfrm>
            <a:off x="2590920" y="1905120"/>
            <a:ext cx="819000" cy="19047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6"/>
          <a:stretch/>
        </p:blipFill>
        <p:spPr>
          <a:xfrm flipH="1">
            <a:off x="5638680" y="243828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 rot="5400000">
            <a:off x="3322080" y="2545560"/>
            <a:ext cx="366480" cy="4572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8"/>
          <a:stretch/>
        </p:blipFill>
        <p:spPr>
          <a:xfrm rot="20326200">
            <a:off x="4114800" y="2819160"/>
            <a:ext cx="453960" cy="48096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9"/>
          <a:stretch/>
        </p:blipFill>
        <p:spPr>
          <a:xfrm flipH="1" rot="16200000">
            <a:off x="3931200" y="1707120"/>
            <a:ext cx="366840" cy="45720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10"/>
          <a:stretch/>
        </p:blipFill>
        <p:spPr>
          <a:xfrm rot="5400000">
            <a:off x="4541040" y="2012040"/>
            <a:ext cx="442800" cy="533520"/>
          </a:xfrm>
          <a:prstGeom prst="rect">
            <a:avLst/>
          </a:prstGeom>
          <a:ln w="0">
            <a:noFill/>
          </a:ln>
        </p:spPr>
      </p:pic>
      <p:sp>
        <p:nvSpPr>
          <p:cNvPr id="807" name="">
            <a:hlinkClick r:id="" action="ppaction://hlinkshowjump?jump=nextslide"/>
            <a:hlinkClick r:id="rId11"/>
          </p:cNvPr>
          <p:cNvSpPr/>
          <p:nvPr/>
        </p:nvSpPr>
        <p:spPr>
          <a:xfrm>
            <a:off x="52578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>
            <a:hlinkClick r:id="rId12"/>
          </p:cNvPr>
          <p:cNvSpPr/>
          <p:nvPr/>
        </p:nvSpPr>
        <p:spPr>
          <a:xfrm>
            <a:off x="243828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810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828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428480" cy="108108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4"/>
          <a:stretch/>
        </p:blipFill>
        <p:spPr>
          <a:xfrm>
            <a:off x="2514600" y="2590920"/>
            <a:ext cx="1428840" cy="108108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5"/>
          <a:stretch/>
        </p:blipFill>
        <p:spPr>
          <a:xfrm>
            <a:off x="4343400" y="1981080"/>
            <a:ext cx="1619280" cy="81936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4343400" y="2666880"/>
            <a:ext cx="1619280" cy="819360"/>
          </a:xfrm>
          <a:prstGeom prst="rect">
            <a:avLst/>
          </a:prstGeom>
          <a:ln w="0">
            <a:noFill/>
          </a:ln>
        </p:spPr>
      </p:pic>
      <p:sp>
        <p:nvSpPr>
          <p:cNvPr id="837" name="">
            <a:hlinkClick r:id="" action="ppaction://hlinkshowjump?jump=nextslide"/>
            <a:hlinkClick r:id="rId7"/>
          </p:cNvPr>
          <p:cNvSpPr/>
          <p:nvPr/>
        </p:nvSpPr>
        <p:spPr>
          <a:xfrm>
            <a:off x="25146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rId8"/>
          </p:cNvPr>
          <p:cNvSpPr/>
          <p:nvPr/>
        </p:nvSpPr>
        <p:spPr>
          <a:xfrm>
            <a:off x="518148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840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71800" y="12193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4 + 3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858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3"/>
          <a:stretch/>
        </p:blipFill>
        <p:spPr>
          <a:xfrm>
            <a:off x="2362320" y="1828800"/>
            <a:ext cx="1819080" cy="193356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4"/>
          <a:stretch/>
        </p:blipFill>
        <p:spPr>
          <a:xfrm>
            <a:off x="4191120" y="1752480"/>
            <a:ext cx="2361960" cy="1524240"/>
          </a:xfrm>
          <a:prstGeom prst="rect">
            <a:avLst/>
          </a:prstGeom>
          <a:ln w="0">
            <a:noFill/>
          </a:ln>
        </p:spPr>
      </p:pic>
      <p:sp>
        <p:nvSpPr>
          <p:cNvPr id="865" name="">
            <a:hlinkClick r:id="" action="ppaction://hlinkshowjump?jump=nextslide"/>
            <a:hlinkClick r:id="rId5"/>
          </p:cNvPr>
          <p:cNvSpPr/>
          <p:nvPr/>
        </p:nvSpPr>
        <p:spPr>
          <a:xfrm>
            <a:off x="52578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rId6"/>
          </p:cNvPr>
          <p:cNvSpPr/>
          <p:nvPr/>
        </p:nvSpPr>
        <p:spPr>
          <a:xfrm>
            <a:off x="243828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868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886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209680" y="1143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11 prieteni au fiecare câte 2 sticle cu apă. Câte sticle cu apă au toţi, la un lo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2590920" y="1752480"/>
            <a:ext cx="685800" cy="2024280"/>
            <a:chOff x="2590920" y="1752480"/>
            <a:chExt cx="685800" cy="2024280"/>
          </a:xfrm>
        </p:grpSpPr>
        <p:pic>
          <p:nvPicPr>
            <p:cNvPr id="890" name="" descr=""/>
            <p:cNvPicPr/>
            <p:nvPr/>
          </p:nvPicPr>
          <p:blipFill>
            <a:blip r:embed="rId3"/>
            <a:stretch/>
          </p:blipFill>
          <p:spPr>
            <a:xfrm>
              <a:off x="2590920" y="1752480"/>
              <a:ext cx="685800" cy="20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2648160" y="2560320"/>
              <a:ext cx="571320" cy="745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80"/>
                  </a:solidFill>
                  <a:latin typeface="Times New Roman"/>
                </a:rPr>
                <a:t>Ap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80"/>
                  </a:solidFill>
                  <a:latin typeface="Times New Roman"/>
                </a:rPr>
                <a:t>mineral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6576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3 stic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9 stic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2 stic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1 sti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>
            <a:hlinkClick r:id="" action="ppaction://hlinkshowjump?jump=nextslide"/>
            <a:hlinkClick r:id="rId4"/>
          </p:cNvPr>
          <p:cNvSpPr/>
          <p:nvPr/>
        </p:nvSpPr>
        <p:spPr>
          <a:xfrm>
            <a:off x="3581280" y="281952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>
            <a:hlinkClick r:id="rId5"/>
          </p:cNvPr>
          <p:cNvSpPr/>
          <p:nvPr/>
        </p:nvSpPr>
        <p:spPr>
          <a:xfrm>
            <a:off x="3733920" y="19051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>
            <a:hlinkClick r:id="rId6"/>
          </p:cNvPr>
          <p:cNvSpPr/>
          <p:nvPr/>
        </p:nvSpPr>
        <p:spPr>
          <a:xfrm>
            <a:off x="3733920" y="23623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>
            <a:hlinkClick r:id="rId7"/>
          </p:cNvPr>
          <p:cNvSpPr/>
          <p:nvPr/>
        </p:nvSpPr>
        <p:spPr>
          <a:xfrm>
            <a:off x="3657600" y="32767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>
            <a:hlinkClick r:id="" action="ppaction://hlinkshowjump?jump=nextslide"/>
            <a:hlinkClick r:id="rId8"/>
          </p:cNvPr>
          <p:cNvSpPr/>
          <p:nvPr/>
        </p:nvSpPr>
        <p:spPr>
          <a:xfrm>
            <a:off x="3657600" y="2819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899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913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Dănuţ are 5 mere. Vlad îi mai dă 5 mere şi Corina 5. Câte mere are acum Dănuţ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6576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5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0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50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0 m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2362320" y="2209680"/>
            <a:ext cx="1028520" cy="1152720"/>
          </a:xfrm>
          <a:prstGeom prst="rect">
            <a:avLst/>
          </a:prstGeom>
          <a:ln w="0">
            <a:noFill/>
          </a:ln>
        </p:spPr>
      </p:pic>
      <p:sp>
        <p:nvSpPr>
          <p:cNvPr id="918" name="">
            <a:hlinkClick r:id="rId4"/>
          </p:cNvPr>
          <p:cNvSpPr/>
          <p:nvPr/>
        </p:nvSpPr>
        <p:spPr>
          <a:xfrm>
            <a:off x="3657600" y="2438280"/>
            <a:ext cx="1523880" cy="38124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4878" y="1400"/>
                </a:lnTo>
                <a:lnTo>
                  <a:pt x="1400" y="140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4878" y="20200"/>
                </a:lnTo>
                <a:lnTo>
                  <a:pt x="84878" y="140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78" y="2020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>
            <a:hlinkClick r:id="rId5"/>
          </p:cNvPr>
          <p:cNvSpPr/>
          <p:nvPr/>
        </p:nvSpPr>
        <p:spPr>
          <a:xfrm>
            <a:off x="3733920" y="28195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>
            <a:hlinkClick r:id="rId6"/>
          </p:cNvPr>
          <p:cNvSpPr/>
          <p:nvPr/>
        </p:nvSpPr>
        <p:spPr>
          <a:xfrm>
            <a:off x="3657600" y="32767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>
            <a:hlinkClick r:id="" action="ppaction://hlinkshowjump?jump=nextslide"/>
            <a:hlinkClick r:id="rId7"/>
          </p:cNvPr>
          <p:cNvSpPr/>
          <p:nvPr/>
        </p:nvSpPr>
        <p:spPr>
          <a:xfrm>
            <a:off x="3657600" y="19051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923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937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În clasă sunt 20 de scaune. Calculează câte picioare de scaune sunt în clas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0 picioa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0 picioa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60 picioa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0 picio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3"/>
          <a:stretch/>
        </p:blipFill>
        <p:spPr>
          <a:xfrm>
            <a:off x="2438280" y="1981080"/>
            <a:ext cx="924120" cy="1219320"/>
          </a:xfrm>
          <a:prstGeom prst="rect">
            <a:avLst/>
          </a:prstGeom>
          <a:ln w="0">
            <a:noFill/>
          </a:ln>
        </p:spPr>
      </p:pic>
      <p:sp>
        <p:nvSpPr>
          <p:cNvPr id="942" name="">
            <a:hlinkClick r:id="rId4"/>
          </p:cNvPr>
          <p:cNvSpPr/>
          <p:nvPr/>
        </p:nvSpPr>
        <p:spPr>
          <a:xfrm>
            <a:off x="3657600" y="1905120"/>
            <a:ext cx="1905120" cy="380880"/>
          </a:xfrm>
          <a:custGeom>
            <a:avLst/>
            <a:gdLst>
              <a:gd name="textAreaLeft" fmla="*/ 24480 w 1905120"/>
              <a:gd name="textAreaRight" fmla="*/ 1880640 w 1905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6559" y="1400"/>
                </a:lnTo>
                <a:lnTo>
                  <a:pt x="1400" y="140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6559" y="20200"/>
                </a:lnTo>
                <a:lnTo>
                  <a:pt x="106559" y="140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9" y="2020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>
            <a:hlinkClick r:id="rId5"/>
          </p:cNvPr>
          <p:cNvSpPr/>
          <p:nvPr/>
        </p:nvSpPr>
        <p:spPr>
          <a:xfrm>
            <a:off x="3657600" y="2362320"/>
            <a:ext cx="1905120" cy="380880"/>
          </a:xfrm>
          <a:custGeom>
            <a:avLst/>
            <a:gdLst>
              <a:gd name="textAreaLeft" fmla="*/ 24480 w 1905120"/>
              <a:gd name="textAreaRight" fmla="*/ 1880640 w 1905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6559" y="1400"/>
                </a:lnTo>
                <a:lnTo>
                  <a:pt x="1400" y="140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6559" y="20200"/>
                </a:lnTo>
                <a:lnTo>
                  <a:pt x="106559" y="140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9" y="2020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>
            <a:hlinkClick r:id="rId6"/>
          </p:cNvPr>
          <p:cNvSpPr/>
          <p:nvPr/>
        </p:nvSpPr>
        <p:spPr>
          <a:xfrm>
            <a:off x="3657600" y="2819520"/>
            <a:ext cx="1905120" cy="380880"/>
          </a:xfrm>
          <a:custGeom>
            <a:avLst/>
            <a:gdLst>
              <a:gd name="textAreaLeft" fmla="*/ 24480 w 1905120"/>
              <a:gd name="textAreaRight" fmla="*/ 1880640 w 1905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6559" y="1400"/>
                </a:lnTo>
                <a:lnTo>
                  <a:pt x="1400" y="140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6559" y="20200"/>
                </a:lnTo>
                <a:lnTo>
                  <a:pt x="106559" y="140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9" y="2020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" action="ppaction://hlinkshowjump?jump=nextslide"/>
            <a:hlinkClick r:id="rId7"/>
          </p:cNvPr>
          <p:cNvSpPr/>
          <p:nvPr/>
        </p:nvSpPr>
        <p:spPr>
          <a:xfrm>
            <a:off x="3657600" y="3276720"/>
            <a:ext cx="1828800" cy="457200"/>
          </a:xfrm>
          <a:custGeom>
            <a:avLst/>
            <a:gdLst>
              <a:gd name="textAreaLeft" fmla="*/ 29520 w 1828800"/>
              <a:gd name="textAreaRight" fmla="*/ 1799280 w 1828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6349" h="21600">
                <a:moveTo>
                  <a:pt x="0" y="0"/>
                </a:moveTo>
                <a:lnTo>
                  <a:pt x="86349" y="0"/>
                </a:lnTo>
                <a:lnTo>
                  <a:pt x="86349" y="21600"/>
                </a:lnTo>
                <a:lnTo>
                  <a:pt x="0" y="21600"/>
                </a:lnTo>
                <a:close/>
              </a:path>
              <a:path fill="lightenLess" w="86349" h="21600">
                <a:moveTo>
                  <a:pt x="0" y="0"/>
                </a:moveTo>
                <a:lnTo>
                  <a:pt x="86349" y="0"/>
                </a:lnTo>
                <a:lnTo>
                  <a:pt x="84949" y="1400"/>
                </a:lnTo>
                <a:lnTo>
                  <a:pt x="1400" y="1400"/>
                </a:lnTo>
                <a:close/>
              </a:path>
              <a:path fill="darken" w="86349" h="21600">
                <a:moveTo>
                  <a:pt x="86349" y="0"/>
                </a:moveTo>
                <a:lnTo>
                  <a:pt x="86349" y="21600"/>
                </a:lnTo>
                <a:lnTo>
                  <a:pt x="84949" y="20200"/>
                </a:lnTo>
                <a:lnTo>
                  <a:pt x="84949" y="1400"/>
                </a:lnTo>
                <a:close/>
              </a:path>
              <a:path fill="darkenLess" w="86349" h="21600">
                <a:moveTo>
                  <a:pt x="8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9" y="20200"/>
                </a:lnTo>
                <a:close/>
              </a:path>
              <a:path fill="lighten" w="8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947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961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2209680" y="990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Eu am 7 </a:t>
            </a:r>
            <a:r>
              <a:rPr b="1" lang="ro-RO" sz="2000" spc="-1" strike="noStrike">
                <a:solidFill>
                  <a:srgbClr val="000099"/>
                </a:solidFill>
                <a:latin typeface="Times New Roman"/>
              </a:rPr>
              <a:t>perechi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de mănuşi. Îi împrumut 2 mănuşi lui Ovidiu, 2 lui Cosmin şi 2 lui Daniel. Câte mănuşi îmi mai rămân m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657600" y="198108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 mănuş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3 mănuş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 mănuş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9 mănuş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3"/>
          <a:stretch/>
        </p:blipFill>
        <p:spPr>
          <a:xfrm>
            <a:off x="2438280" y="2209680"/>
            <a:ext cx="876600" cy="1467000"/>
          </a:xfrm>
          <a:prstGeom prst="rect">
            <a:avLst/>
          </a:prstGeom>
          <a:ln w="0">
            <a:noFill/>
          </a:ln>
        </p:spPr>
      </p:pic>
      <p:sp>
        <p:nvSpPr>
          <p:cNvPr id="966" name="">
            <a:hlinkClick r:id="rId4"/>
          </p:cNvPr>
          <p:cNvSpPr/>
          <p:nvPr/>
        </p:nvSpPr>
        <p:spPr>
          <a:xfrm>
            <a:off x="3657600" y="1981080"/>
            <a:ext cx="1828800" cy="38124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102137" y="1400"/>
                </a:lnTo>
                <a:lnTo>
                  <a:pt x="1400" y="140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102137" y="20200"/>
                </a:lnTo>
                <a:lnTo>
                  <a:pt x="102137" y="140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37" y="2020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>
            <a:hlinkClick r:id="rId5"/>
          </p:cNvPr>
          <p:cNvSpPr/>
          <p:nvPr/>
        </p:nvSpPr>
        <p:spPr>
          <a:xfrm>
            <a:off x="3657600" y="2438280"/>
            <a:ext cx="1752480" cy="381240"/>
          </a:xfrm>
          <a:custGeom>
            <a:avLst/>
            <a:gdLst>
              <a:gd name="textAreaLeft" fmla="*/ 24480 w 1752480"/>
              <a:gd name="textAreaRight" fmla="*/ 1728000 w 1752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99217" h="21600">
                <a:moveTo>
                  <a:pt x="0" y="0"/>
                </a:moveTo>
                <a:lnTo>
                  <a:pt x="99217" y="0"/>
                </a:lnTo>
                <a:lnTo>
                  <a:pt x="99217" y="21600"/>
                </a:lnTo>
                <a:lnTo>
                  <a:pt x="0" y="21600"/>
                </a:lnTo>
                <a:close/>
              </a:path>
              <a:path fill="lightenLess" w="99217" h="21600">
                <a:moveTo>
                  <a:pt x="0" y="0"/>
                </a:moveTo>
                <a:lnTo>
                  <a:pt x="99217" y="0"/>
                </a:lnTo>
                <a:lnTo>
                  <a:pt x="97817" y="1400"/>
                </a:lnTo>
                <a:lnTo>
                  <a:pt x="1400" y="1400"/>
                </a:lnTo>
                <a:close/>
              </a:path>
              <a:path fill="darken" w="99217" h="21600">
                <a:moveTo>
                  <a:pt x="99217" y="0"/>
                </a:moveTo>
                <a:lnTo>
                  <a:pt x="99217" y="21600"/>
                </a:lnTo>
                <a:lnTo>
                  <a:pt x="97817" y="20200"/>
                </a:lnTo>
                <a:lnTo>
                  <a:pt x="97817" y="1400"/>
                </a:lnTo>
                <a:close/>
              </a:path>
              <a:path fill="darkenLess" w="99217" h="21600">
                <a:moveTo>
                  <a:pt x="992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17" y="20200"/>
                </a:lnTo>
                <a:close/>
              </a:path>
              <a:path fill="lighten" w="992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>
            <a:hlinkClick r:id="rId6"/>
          </p:cNvPr>
          <p:cNvSpPr/>
          <p:nvPr/>
        </p:nvSpPr>
        <p:spPr>
          <a:xfrm>
            <a:off x="3581280" y="3429000"/>
            <a:ext cx="1828800" cy="30492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9422" h="21600">
                <a:moveTo>
                  <a:pt x="0" y="0"/>
                </a:moveTo>
                <a:lnTo>
                  <a:pt x="129422" y="0"/>
                </a:lnTo>
                <a:lnTo>
                  <a:pt x="129422" y="21600"/>
                </a:lnTo>
                <a:lnTo>
                  <a:pt x="0" y="21600"/>
                </a:lnTo>
                <a:close/>
              </a:path>
              <a:path fill="lightenLess" w="129422" h="21600">
                <a:moveTo>
                  <a:pt x="0" y="0"/>
                </a:moveTo>
                <a:lnTo>
                  <a:pt x="129422" y="0"/>
                </a:lnTo>
                <a:lnTo>
                  <a:pt x="128022" y="1400"/>
                </a:lnTo>
                <a:lnTo>
                  <a:pt x="1400" y="1400"/>
                </a:lnTo>
                <a:close/>
              </a:path>
              <a:path fill="darken" w="129422" h="21600">
                <a:moveTo>
                  <a:pt x="129422" y="0"/>
                </a:moveTo>
                <a:lnTo>
                  <a:pt x="129422" y="21600"/>
                </a:lnTo>
                <a:lnTo>
                  <a:pt x="128022" y="20200"/>
                </a:lnTo>
                <a:lnTo>
                  <a:pt x="128022" y="1400"/>
                </a:lnTo>
                <a:close/>
              </a:path>
              <a:path fill="darkenLess" w="129422" h="21600">
                <a:moveTo>
                  <a:pt x="1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22" y="20200"/>
                </a:lnTo>
                <a:close/>
              </a:path>
              <a:path fill="lighten" w="1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>
            <a:hlinkClick r:id="" action="ppaction://hlinkshowjump?jump=nextslide"/>
            <a:hlinkClick r:id="rId7"/>
          </p:cNvPr>
          <p:cNvSpPr/>
          <p:nvPr/>
        </p:nvSpPr>
        <p:spPr>
          <a:xfrm>
            <a:off x="3657600" y="2895480"/>
            <a:ext cx="1828800" cy="38124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102137" y="1400"/>
                </a:lnTo>
                <a:lnTo>
                  <a:pt x="1400" y="140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102137" y="20200"/>
                </a:lnTo>
                <a:lnTo>
                  <a:pt x="102137" y="140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37" y="2020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971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985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209680" y="990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Bunica are 20 de mere. Din 10 mere face compot, iar din 8, prăjitură. Câte mere îi mai rămâ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26708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8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2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38 m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3"/>
          <a:stretch/>
        </p:blipFill>
        <p:spPr>
          <a:xfrm>
            <a:off x="2286000" y="2362320"/>
            <a:ext cx="1962000" cy="961920"/>
          </a:xfrm>
          <a:prstGeom prst="rect">
            <a:avLst/>
          </a:prstGeom>
          <a:ln w="0">
            <a:noFill/>
          </a:ln>
        </p:spPr>
      </p:pic>
      <p:sp>
        <p:nvSpPr>
          <p:cNvPr id="990" name="">
            <a:hlinkClick r:id="rId4"/>
          </p:cNvPr>
          <p:cNvSpPr/>
          <p:nvPr/>
        </p:nvSpPr>
        <p:spPr>
          <a:xfrm>
            <a:off x="4343400" y="19051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>
            <a:hlinkClick r:id="rId5"/>
          </p:cNvPr>
          <p:cNvSpPr/>
          <p:nvPr/>
        </p:nvSpPr>
        <p:spPr>
          <a:xfrm>
            <a:off x="4343400" y="23623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>
            <a:hlinkClick r:id="rId6"/>
          </p:cNvPr>
          <p:cNvSpPr/>
          <p:nvPr/>
        </p:nvSpPr>
        <p:spPr>
          <a:xfrm>
            <a:off x="4267080" y="3352680"/>
            <a:ext cx="1524240" cy="38124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" action="ppaction://hlinkshowjump?jump=nextslide"/>
            <a:hlinkClick r:id="rId7"/>
          </p:cNvPr>
          <p:cNvSpPr/>
          <p:nvPr/>
        </p:nvSpPr>
        <p:spPr>
          <a:xfrm>
            <a:off x="4343400" y="28195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995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009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2209680" y="990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Marcel a dat câte 5 bomboane fiecăia dintre cei 4 prieteni ai săi. Câte bomboane a dat Marc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886200" y="182880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5 bomboab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5 bomboa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0 bomboa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0 bombo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/>
          <p:cNvPicPr/>
          <p:nvPr/>
        </p:nvPicPr>
        <p:blipFill>
          <a:blip r:embed="rId3"/>
          <a:stretch/>
        </p:blipFill>
        <p:spPr>
          <a:xfrm>
            <a:off x="2438280" y="2057400"/>
            <a:ext cx="1276560" cy="1542960"/>
          </a:xfrm>
          <a:prstGeom prst="rect">
            <a:avLst/>
          </a:prstGeom>
          <a:ln w="0">
            <a:noFill/>
          </a:ln>
        </p:spPr>
      </p:pic>
      <p:sp>
        <p:nvSpPr>
          <p:cNvPr id="1014" name="">
            <a:hlinkClick r:id="rId4"/>
          </p:cNvPr>
          <p:cNvSpPr/>
          <p:nvPr/>
        </p:nvSpPr>
        <p:spPr>
          <a:xfrm>
            <a:off x="3886200" y="1828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>
            <a:hlinkClick r:id="rId5"/>
          </p:cNvPr>
          <p:cNvSpPr/>
          <p:nvPr/>
        </p:nvSpPr>
        <p:spPr>
          <a:xfrm>
            <a:off x="3962520" y="2286000"/>
            <a:ext cx="1981080" cy="380880"/>
          </a:xfrm>
          <a:custGeom>
            <a:avLst/>
            <a:gdLst>
              <a:gd name="textAreaLeft" fmla="*/ 24480 w 1981080"/>
              <a:gd name="textAreaRight" fmla="*/ 1956600 w 1981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2263" h="21600">
                <a:moveTo>
                  <a:pt x="0" y="0"/>
                </a:moveTo>
                <a:lnTo>
                  <a:pt x="112263" y="0"/>
                </a:lnTo>
                <a:lnTo>
                  <a:pt x="112263" y="21600"/>
                </a:lnTo>
                <a:lnTo>
                  <a:pt x="0" y="21600"/>
                </a:lnTo>
                <a:close/>
              </a:path>
              <a:path fill="lightenLess" w="112263" h="21600">
                <a:moveTo>
                  <a:pt x="0" y="0"/>
                </a:moveTo>
                <a:lnTo>
                  <a:pt x="112263" y="0"/>
                </a:lnTo>
                <a:lnTo>
                  <a:pt x="110863" y="1400"/>
                </a:lnTo>
                <a:lnTo>
                  <a:pt x="1400" y="1400"/>
                </a:lnTo>
                <a:close/>
              </a:path>
              <a:path fill="darken" w="112263" h="21600">
                <a:moveTo>
                  <a:pt x="112263" y="0"/>
                </a:moveTo>
                <a:lnTo>
                  <a:pt x="112263" y="21600"/>
                </a:lnTo>
                <a:lnTo>
                  <a:pt x="110863" y="20200"/>
                </a:lnTo>
                <a:lnTo>
                  <a:pt x="110863" y="1400"/>
                </a:lnTo>
                <a:close/>
              </a:path>
              <a:path fill="darkenLess" w="112263" h="21600">
                <a:moveTo>
                  <a:pt x="112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63" y="20200"/>
                </a:lnTo>
                <a:close/>
              </a:path>
              <a:path fill="lighten" w="112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rId6"/>
          </p:cNvPr>
          <p:cNvSpPr/>
          <p:nvPr/>
        </p:nvSpPr>
        <p:spPr>
          <a:xfrm>
            <a:off x="3886200" y="3276720"/>
            <a:ext cx="2133720" cy="380880"/>
          </a:xfrm>
          <a:custGeom>
            <a:avLst/>
            <a:gdLst>
              <a:gd name="textAreaLeft" fmla="*/ 24480 w 2133720"/>
              <a:gd name="textAreaRight" fmla="*/ 2109240 w 2133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911" h="21600">
                <a:moveTo>
                  <a:pt x="0" y="0"/>
                </a:moveTo>
                <a:lnTo>
                  <a:pt x="120911" y="0"/>
                </a:lnTo>
                <a:lnTo>
                  <a:pt x="120911" y="21600"/>
                </a:lnTo>
                <a:lnTo>
                  <a:pt x="0" y="21600"/>
                </a:lnTo>
                <a:close/>
              </a:path>
              <a:path fill="lightenLess" w="120911" h="21600">
                <a:moveTo>
                  <a:pt x="0" y="0"/>
                </a:moveTo>
                <a:lnTo>
                  <a:pt x="120911" y="0"/>
                </a:lnTo>
                <a:lnTo>
                  <a:pt x="119511" y="1400"/>
                </a:lnTo>
                <a:lnTo>
                  <a:pt x="1400" y="1400"/>
                </a:lnTo>
                <a:close/>
              </a:path>
              <a:path fill="darken" w="120911" h="21600">
                <a:moveTo>
                  <a:pt x="120911" y="0"/>
                </a:moveTo>
                <a:lnTo>
                  <a:pt x="120911" y="21600"/>
                </a:lnTo>
                <a:lnTo>
                  <a:pt x="119511" y="20200"/>
                </a:lnTo>
                <a:lnTo>
                  <a:pt x="119511" y="1400"/>
                </a:lnTo>
                <a:close/>
              </a:path>
              <a:path fill="darkenLess" w="120911" h="21600">
                <a:moveTo>
                  <a:pt x="120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11" y="20200"/>
                </a:lnTo>
                <a:close/>
              </a:path>
              <a:path fill="lighten" w="120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>
            <a:hlinkClick r:id="" action="ppaction://hlinkshowjump?jump=nextslide"/>
            <a:hlinkClick r:id="rId7"/>
          </p:cNvPr>
          <p:cNvSpPr/>
          <p:nvPr/>
        </p:nvSpPr>
        <p:spPr>
          <a:xfrm>
            <a:off x="3886200" y="2743200"/>
            <a:ext cx="2057400" cy="457200"/>
          </a:xfrm>
          <a:custGeom>
            <a:avLst/>
            <a:gdLst>
              <a:gd name="textAreaLeft" fmla="*/ 29520 w 2057400"/>
              <a:gd name="textAreaRight" fmla="*/ 2027880 w 2057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5741" y="1400"/>
                </a:lnTo>
                <a:lnTo>
                  <a:pt x="1400" y="14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5741" y="20200"/>
                </a:lnTo>
                <a:lnTo>
                  <a:pt x="95741" y="14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41" y="202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019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"/>
          <p:cNvGrpSpPr/>
          <p:nvPr/>
        </p:nvGrpSpPr>
        <p:grpSpPr>
          <a:xfrm>
            <a:off x="1523880" y="838080"/>
            <a:ext cx="5943240" cy="5333760"/>
            <a:chOff x="1523880" y="838080"/>
            <a:chExt cx="5943240" cy="5333760"/>
          </a:xfrm>
        </p:grpSpPr>
        <p:pic>
          <p:nvPicPr>
            <p:cNvPr id="1033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94324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4" name=""/>
            <p:cNvSpPr/>
            <p:nvPr/>
          </p:nvSpPr>
          <p:spPr>
            <a:xfrm>
              <a:off x="2183760" y="943200"/>
              <a:ext cx="462276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2209680" y="990720"/>
            <a:ext cx="4648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o-RO" sz="1800" spc="-1" strike="noStrike">
                <a:solidFill>
                  <a:srgbClr val="000099"/>
                </a:solidFill>
                <a:latin typeface="Times New Roman"/>
              </a:rPr>
              <a:t>La şcoală s.a organizat un concurs de mâncat ciocolată. Mihai a mâncat 23 de ciocolate, Ionuţ 21, Maria 31 şi Roxana 3. Cine a luat medalia de aur, de argint şi de bronz? (găseşte ordin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886200" y="21337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Ionuţ, Maria, Rox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Maria, Mihai, Ionuţ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Maria, Ionuţ, Miha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Roxana, Ionuţ, Miha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3"/>
          <a:stretch/>
        </p:blipFill>
        <p:spPr>
          <a:xfrm>
            <a:off x="2362320" y="2438280"/>
            <a:ext cx="1380960" cy="104796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3352680" y="3200400"/>
            <a:ext cx="4572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7467480" y="380880"/>
            <a:ext cx="1371600" cy="1600200"/>
            <a:chOff x="7467480" y="380880"/>
            <a:chExt cx="1371600" cy="1600200"/>
          </a:xfrm>
        </p:grpSpPr>
        <p:pic>
          <p:nvPicPr>
            <p:cNvPr id="1040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7696080" y="533520"/>
              <a:ext cx="91440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"/>
            <p:cNvSpPr/>
            <p:nvPr/>
          </p:nvSpPr>
          <p:spPr>
            <a:xfrm>
              <a:off x="7467480" y="380880"/>
              <a:ext cx="1371600" cy="1600200"/>
            </a:xfrm>
            <a:custGeom>
              <a:avLst/>
              <a:gdLst>
                <a:gd name="textAreaLeft" fmla="*/ 88560 w 1371600"/>
                <a:gd name="textAreaRight" fmla="*/ 1283040 w 1371600"/>
                <a:gd name="textAreaTop" fmla="*/ 88560 h 1600200"/>
                <a:gd name="textAreaBottom" fmla="*/ 1511640 h 1600200"/>
              </a:gdLst>
              <a:ahLst/>
              <a:rect l="textAreaLeft" t="textAreaTop" r="textAreaRight" b="textAreaBottom"/>
              <a:pathLst>
                <a:path w="21600" h="25199">
                  <a:moveTo>
                    <a:pt x="0" y="0"/>
                  </a:moveTo>
                  <a:lnTo>
                    <a:pt x="21600" y="0"/>
                  </a:lnTo>
                  <a:lnTo>
                    <a:pt x="21600" y="25199"/>
                  </a:lnTo>
                  <a:lnTo>
                    <a:pt x="0" y="25199"/>
                  </a:lnTo>
                  <a:close/>
                </a:path>
                <a:path fill="lightenLess" w="21600" h="2519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199">
                  <a:moveTo>
                    <a:pt x="21600" y="0"/>
                  </a:moveTo>
                  <a:lnTo>
                    <a:pt x="21600" y="25199"/>
                  </a:lnTo>
                  <a:lnTo>
                    <a:pt x="20200" y="23799"/>
                  </a:lnTo>
                  <a:lnTo>
                    <a:pt x="20200" y="1400"/>
                  </a:lnTo>
                  <a:close/>
                </a:path>
                <a:path fill="darkenLess" w="21600" h="25199">
                  <a:moveTo>
                    <a:pt x="21600" y="25199"/>
                  </a:moveTo>
                  <a:lnTo>
                    <a:pt x="0" y="25199"/>
                  </a:lnTo>
                  <a:lnTo>
                    <a:pt x="1400" y="23799"/>
                  </a:lnTo>
                  <a:lnTo>
                    <a:pt x="20200" y="23799"/>
                  </a:lnTo>
                  <a:close/>
                </a:path>
                <a:path fill="lighten" w="21600" h="25199">
                  <a:moveTo>
                    <a:pt x="0" y="2519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79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">
            <a:hlinkClick r:id="rId6"/>
          </p:cNvPr>
          <p:cNvSpPr/>
          <p:nvPr/>
        </p:nvSpPr>
        <p:spPr>
          <a:xfrm>
            <a:off x="3962520" y="2133720"/>
            <a:ext cx="2590560" cy="380880"/>
          </a:xfrm>
          <a:custGeom>
            <a:avLst/>
            <a:gdLst>
              <a:gd name="textAreaLeft" fmla="*/ 24480 w 2590560"/>
              <a:gd name="textAreaRight" fmla="*/ 2566080 w 2590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46794" h="21600">
                <a:moveTo>
                  <a:pt x="0" y="0"/>
                </a:moveTo>
                <a:lnTo>
                  <a:pt x="146794" y="0"/>
                </a:lnTo>
                <a:lnTo>
                  <a:pt x="146794" y="21600"/>
                </a:lnTo>
                <a:lnTo>
                  <a:pt x="0" y="21600"/>
                </a:lnTo>
                <a:close/>
              </a:path>
              <a:path fill="lightenLess" w="146794" h="21600">
                <a:moveTo>
                  <a:pt x="0" y="0"/>
                </a:moveTo>
                <a:lnTo>
                  <a:pt x="146794" y="0"/>
                </a:lnTo>
                <a:lnTo>
                  <a:pt x="145394" y="1400"/>
                </a:lnTo>
                <a:lnTo>
                  <a:pt x="1400" y="1400"/>
                </a:lnTo>
                <a:close/>
              </a:path>
              <a:path fill="darken" w="146794" h="21600">
                <a:moveTo>
                  <a:pt x="146794" y="0"/>
                </a:moveTo>
                <a:lnTo>
                  <a:pt x="146794" y="21600"/>
                </a:lnTo>
                <a:lnTo>
                  <a:pt x="145394" y="20200"/>
                </a:lnTo>
                <a:lnTo>
                  <a:pt x="145394" y="1400"/>
                </a:lnTo>
                <a:close/>
              </a:path>
              <a:path fill="darkenLess" w="146794" h="21600">
                <a:moveTo>
                  <a:pt x="146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394" y="20200"/>
                </a:lnTo>
                <a:close/>
              </a:path>
              <a:path fill="lighten" w="146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>
            <a:hlinkClick r:id="rId7"/>
          </p:cNvPr>
          <p:cNvSpPr/>
          <p:nvPr/>
        </p:nvSpPr>
        <p:spPr>
          <a:xfrm>
            <a:off x="3886200" y="2971800"/>
            <a:ext cx="2590920" cy="380880"/>
          </a:xfrm>
          <a:custGeom>
            <a:avLst/>
            <a:gdLst>
              <a:gd name="textAreaLeft" fmla="*/ 24480 w 2590920"/>
              <a:gd name="textAreaRight" fmla="*/ 2566440 w 2590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46815" h="21600">
                <a:moveTo>
                  <a:pt x="0" y="0"/>
                </a:moveTo>
                <a:lnTo>
                  <a:pt x="146815" y="0"/>
                </a:lnTo>
                <a:lnTo>
                  <a:pt x="146815" y="21600"/>
                </a:lnTo>
                <a:lnTo>
                  <a:pt x="0" y="21600"/>
                </a:lnTo>
                <a:close/>
              </a:path>
              <a:path fill="lightenLess" w="146815" h="21600">
                <a:moveTo>
                  <a:pt x="0" y="0"/>
                </a:moveTo>
                <a:lnTo>
                  <a:pt x="146815" y="0"/>
                </a:lnTo>
                <a:lnTo>
                  <a:pt x="145415" y="1400"/>
                </a:lnTo>
                <a:lnTo>
                  <a:pt x="1400" y="1400"/>
                </a:lnTo>
                <a:close/>
              </a:path>
              <a:path fill="darken" w="146815" h="21600">
                <a:moveTo>
                  <a:pt x="146815" y="0"/>
                </a:moveTo>
                <a:lnTo>
                  <a:pt x="146815" y="21600"/>
                </a:lnTo>
                <a:lnTo>
                  <a:pt x="145415" y="20200"/>
                </a:lnTo>
                <a:lnTo>
                  <a:pt x="145415" y="1400"/>
                </a:lnTo>
                <a:close/>
              </a:path>
              <a:path fill="darkenLess" w="146815" h="21600">
                <a:moveTo>
                  <a:pt x="146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415" y="20200"/>
                </a:lnTo>
                <a:close/>
              </a:path>
              <a:path fill="lighten" w="146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>
            <a:hlinkClick r:id="rId8"/>
          </p:cNvPr>
          <p:cNvSpPr/>
          <p:nvPr/>
        </p:nvSpPr>
        <p:spPr>
          <a:xfrm>
            <a:off x="3886200" y="3352680"/>
            <a:ext cx="2666880" cy="381240"/>
          </a:xfrm>
          <a:custGeom>
            <a:avLst/>
            <a:gdLst>
              <a:gd name="textAreaLeft" fmla="*/ 24480 w 2666880"/>
              <a:gd name="textAreaRight" fmla="*/ 2642400 w 2666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0976" h="21600">
                <a:moveTo>
                  <a:pt x="0" y="0"/>
                </a:moveTo>
                <a:lnTo>
                  <a:pt x="150976" y="0"/>
                </a:lnTo>
                <a:lnTo>
                  <a:pt x="150976" y="21600"/>
                </a:lnTo>
                <a:lnTo>
                  <a:pt x="0" y="21600"/>
                </a:lnTo>
                <a:close/>
              </a:path>
              <a:path fill="lightenLess" w="150976" h="21600">
                <a:moveTo>
                  <a:pt x="0" y="0"/>
                </a:moveTo>
                <a:lnTo>
                  <a:pt x="150976" y="0"/>
                </a:lnTo>
                <a:lnTo>
                  <a:pt x="149576" y="1400"/>
                </a:lnTo>
                <a:lnTo>
                  <a:pt x="1400" y="1400"/>
                </a:lnTo>
                <a:close/>
              </a:path>
              <a:path fill="darken" w="150976" h="21600">
                <a:moveTo>
                  <a:pt x="150976" y="0"/>
                </a:moveTo>
                <a:lnTo>
                  <a:pt x="150976" y="21600"/>
                </a:lnTo>
                <a:lnTo>
                  <a:pt x="149576" y="20200"/>
                </a:lnTo>
                <a:lnTo>
                  <a:pt x="149576" y="1400"/>
                </a:lnTo>
                <a:close/>
              </a:path>
              <a:path fill="darkenLess" w="150976" h="21600">
                <a:moveTo>
                  <a:pt x="150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576" y="20200"/>
                </a:lnTo>
                <a:close/>
              </a:path>
              <a:path fill="lighten" w="150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" action="ppaction://hlinkshowjump?jump=nextslide"/>
            <a:hlinkClick r:id="rId9"/>
          </p:cNvPr>
          <p:cNvSpPr/>
          <p:nvPr/>
        </p:nvSpPr>
        <p:spPr>
          <a:xfrm>
            <a:off x="3886200" y="2514600"/>
            <a:ext cx="2438280" cy="457200"/>
          </a:xfrm>
          <a:custGeom>
            <a:avLst/>
            <a:gdLst>
              <a:gd name="textAreaLeft" fmla="*/ 29520 w 2438280"/>
              <a:gd name="textAreaRight" fmla="*/ 2408760 w 2438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5121" h="21600">
                <a:moveTo>
                  <a:pt x="0" y="0"/>
                </a:moveTo>
                <a:lnTo>
                  <a:pt x="115121" y="0"/>
                </a:lnTo>
                <a:lnTo>
                  <a:pt x="115121" y="21600"/>
                </a:lnTo>
                <a:lnTo>
                  <a:pt x="0" y="21600"/>
                </a:lnTo>
                <a:close/>
              </a:path>
              <a:path fill="lightenLess" w="115121" h="21600">
                <a:moveTo>
                  <a:pt x="0" y="0"/>
                </a:moveTo>
                <a:lnTo>
                  <a:pt x="115121" y="0"/>
                </a:lnTo>
                <a:lnTo>
                  <a:pt x="113721" y="1400"/>
                </a:lnTo>
                <a:lnTo>
                  <a:pt x="1400" y="1400"/>
                </a:lnTo>
                <a:close/>
              </a:path>
              <a:path fill="darken" w="115121" h="21600">
                <a:moveTo>
                  <a:pt x="115121" y="0"/>
                </a:moveTo>
                <a:lnTo>
                  <a:pt x="115121" y="21600"/>
                </a:lnTo>
                <a:lnTo>
                  <a:pt x="113721" y="20200"/>
                </a:lnTo>
                <a:lnTo>
                  <a:pt x="113721" y="1400"/>
                </a:lnTo>
                <a:close/>
              </a:path>
              <a:path fill="darkenLess" w="115121" h="21600">
                <a:moveTo>
                  <a:pt x="115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21" y="20200"/>
                </a:lnTo>
                <a:close/>
              </a:path>
              <a:path fill="lighten" w="115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047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061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209680" y="990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Lucia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are 25 de fragi. Ea a dat 2 fragi Elenei şi 1 lui Costel. Câţi fragi i-au mai ră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8862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3 frag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5 frag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3 frag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2 fra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761760" cy="914400"/>
          </a:xfrm>
          <a:prstGeom prst="rect">
            <a:avLst/>
          </a:prstGeom>
          <a:ln w="0">
            <a:noFill/>
          </a:ln>
        </p:spPr>
      </p:pic>
      <p:sp>
        <p:nvSpPr>
          <p:cNvPr id="1066" name="">
            <a:hlinkClick r:id="rId4"/>
          </p:cNvPr>
          <p:cNvSpPr/>
          <p:nvPr/>
        </p:nvSpPr>
        <p:spPr>
          <a:xfrm>
            <a:off x="3886200" y="19051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rId5"/>
          </p:cNvPr>
          <p:cNvSpPr/>
          <p:nvPr/>
        </p:nvSpPr>
        <p:spPr>
          <a:xfrm>
            <a:off x="3886200" y="23623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>
            <a:hlinkClick r:id="rId6"/>
          </p:cNvPr>
          <p:cNvSpPr/>
          <p:nvPr/>
        </p:nvSpPr>
        <p:spPr>
          <a:xfrm>
            <a:off x="3886200" y="28195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>
            <a:hlinkClick r:id="" action="ppaction://hlinkshowjump?jump=nextslide"/>
            <a:hlinkClick r:id="rId7"/>
          </p:cNvPr>
          <p:cNvSpPr/>
          <p:nvPr/>
        </p:nvSpPr>
        <p:spPr>
          <a:xfrm>
            <a:off x="3886200" y="32767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071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085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2209680" y="990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Pe o creangă sunt 12 păsări. 6 din ele sunt cenuşii, 4 sunt negre, iar restul sunt albe. Câte păsări albe su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862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 păsă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păsă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6 păsă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 păsă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3"/>
          <a:stretch/>
        </p:blipFill>
        <p:spPr>
          <a:xfrm>
            <a:off x="2286000" y="2057400"/>
            <a:ext cx="1552680" cy="1371600"/>
          </a:xfrm>
          <a:prstGeom prst="rect">
            <a:avLst/>
          </a:prstGeom>
          <a:ln w="0">
            <a:noFill/>
          </a:ln>
        </p:spPr>
      </p:pic>
      <p:sp>
        <p:nvSpPr>
          <p:cNvPr id="1090" name="">
            <a:hlinkClick r:id="rId4"/>
          </p:cNvPr>
          <p:cNvSpPr/>
          <p:nvPr/>
        </p:nvSpPr>
        <p:spPr>
          <a:xfrm>
            <a:off x="3886200" y="2438280"/>
            <a:ext cx="1523880" cy="38124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4878" y="1400"/>
                </a:lnTo>
                <a:lnTo>
                  <a:pt x="1400" y="140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4878" y="20200"/>
                </a:lnTo>
                <a:lnTo>
                  <a:pt x="84878" y="140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78" y="2020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>
            <a:hlinkClick r:id="rId5"/>
          </p:cNvPr>
          <p:cNvSpPr/>
          <p:nvPr/>
        </p:nvSpPr>
        <p:spPr>
          <a:xfrm>
            <a:off x="3886200" y="28195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>
            <a:hlinkClick r:id="rId6"/>
          </p:cNvPr>
          <p:cNvSpPr/>
          <p:nvPr/>
        </p:nvSpPr>
        <p:spPr>
          <a:xfrm>
            <a:off x="3886200" y="32767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>
            <a:hlinkClick r:id="" action="ppaction://hlinkshowjump?jump=nextslide"/>
            <a:hlinkClick r:id="rId7"/>
          </p:cNvPr>
          <p:cNvSpPr/>
          <p:nvPr/>
        </p:nvSpPr>
        <p:spPr>
          <a:xfrm>
            <a:off x="3809880" y="1905120"/>
            <a:ext cx="1524240" cy="457200"/>
          </a:xfrm>
          <a:custGeom>
            <a:avLst/>
            <a:gdLst>
              <a:gd name="textAreaLeft" fmla="*/ 29520 w 1524240"/>
              <a:gd name="textAreaRight" fmla="*/ 1494720 w 15242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72" h="21600">
                <a:moveTo>
                  <a:pt x="0" y="0"/>
                </a:moveTo>
                <a:lnTo>
                  <a:pt x="71972" y="0"/>
                </a:lnTo>
                <a:lnTo>
                  <a:pt x="71972" y="21600"/>
                </a:lnTo>
                <a:lnTo>
                  <a:pt x="0" y="21600"/>
                </a:lnTo>
                <a:close/>
              </a:path>
              <a:path fill="lightenLess" w="71972" h="21600">
                <a:moveTo>
                  <a:pt x="0" y="0"/>
                </a:moveTo>
                <a:lnTo>
                  <a:pt x="71972" y="0"/>
                </a:lnTo>
                <a:lnTo>
                  <a:pt x="70572" y="1400"/>
                </a:lnTo>
                <a:lnTo>
                  <a:pt x="1400" y="1400"/>
                </a:lnTo>
                <a:close/>
              </a:path>
              <a:path fill="darken" w="71972" h="21600">
                <a:moveTo>
                  <a:pt x="71972" y="0"/>
                </a:moveTo>
                <a:lnTo>
                  <a:pt x="71972" y="21600"/>
                </a:lnTo>
                <a:lnTo>
                  <a:pt x="70572" y="20200"/>
                </a:lnTo>
                <a:lnTo>
                  <a:pt x="70572" y="1400"/>
                </a:lnTo>
                <a:close/>
              </a:path>
              <a:path fill="darkenLess" w="71972" h="21600">
                <a:moveTo>
                  <a:pt x="71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2" y="20200"/>
                </a:lnTo>
                <a:close/>
              </a:path>
              <a:path fill="lighten" w="71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095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9 - 2 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109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Un măr are 4 cămăruţe cu câte 3 seminţe fiecare. Câte seminţe are măr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862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7 seminţ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2 seminţ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6 seminţ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 sămânţ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3"/>
          <a:stretch/>
        </p:blipFill>
        <p:spPr>
          <a:xfrm>
            <a:off x="2209680" y="2133720"/>
            <a:ext cx="1714680" cy="1371600"/>
          </a:xfrm>
          <a:prstGeom prst="rect">
            <a:avLst/>
          </a:prstGeom>
          <a:ln w="0">
            <a:noFill/>
          </a:ln>
        </p:spPr>
      </p:pic>
      <p:sp>
        <p:nvSpPr>
          <p:cNvPr id="1114" name="">
            <a:hlinkClick r:id="rId4"/>
          </p:cNvPr>
          <p:cNvSpPr/>
          <p:nvPr/>
        </p:nvSpPr>
        <p:spPr>
          <a:xfrm>
            <a:off x="3962520" y="1905120"/>
            <a:ext cx="1752480" cy="380880"/>
          </a:xfrm>
          <a:custGeom>
            <a:avLst/>
            <a:gdLst>
              <a:gd name="textAreaLeft" fmla="*/ 24480 w 1752480"/>
              <a:gd name="textAreaRight" fmla="*/ 1728000 w 1752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7911" y="1400"/>
                </a:lnTo>
                <a:lnTo>
                  <a:pt x="1400" y="14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7911" y="20200"/>
                </a:lnTo>
                <a:lnTo>
                  <a:pt x="97911" y="14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11" y="202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>
            <a:hlinkClick r:id="rId5"/>
          </p:cNvPr>
          <p:cNvSpPr/>
          <p:nvPr/>
        </p:nvSpPr>
        <p:spPr>
          <a:xfrm>
            <a:off x="3962520" y="2895480"/>
            <a:ext cx="1828800" cy="30492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9422" h="21600">
                <a:moveTo>
                  <a:pt x="0" y="0"/>
                </a:moveTo>
                <a:lnTo>
                  <a:pt x="129422" y="0"/>
                </a:lnTo>
                <a:lnTo>
                  <a:pt x="129422" y="21600"/>
                </a:lnTo>
                <a:lnTo>
                  <a:pt x="0" y="21600"/>
                </a:lnTo>
                <a:close/>
              </a:path>
              <a:path fill="lightenLess" w="129422" h="21600">
                <a:moveTo>
                  <a:pt x="0" y="0"/>
                </a:moveTo>
                <a:lnTo>
                  <a:pt x="129422" y="0"/>
                </a:lnTo>
                <a:lnTo>
                  <a:pt x="128022" y="1400"/>
                </a:lnTo>
                <a:lnTo>
                  <a:pt x="1400" y="1400"/>
                </a:lnTo>
                <a:close/>
              </a:path>
              <a:path fill="darken" w="129422" h="21600">
                <a:moveTo>
                  <a:pt x="129422" y="0"/>
                </a:moveTo>
                <a:lnTo>
                  <a:pt x="129422" y="21600"/>
                </a:lnTo>
                <a:lnTo>
                  <a:pt x="128022" y="20200"/>
                </a:lnTo>
                <a:lnTo>
                  <a:pt x="128022" y="1400"/>
                </a:lnTo>
                <a:close/>
              </a:path>
              <a:path fill="darkenLess" w="129422" h="21600">
                <a:moveTo>
                  <a:pt x="1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22" y="20200"/>
                </a:lnTo>
                <a:close/>
              </a:path>
              <a:path fill="lighten" w="1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>
            <a:hlinkClick r:id="rId6"/>
          </p:cNvPr>
          <p:cNvSpPr/>
          <p:nvPr/>
        </p:nvSpPr>
        <p:spPr>
          <a:xfrm>
            <a:off x="3886200" y="3276720"/>
            <a:ext cx="1828800" cy="38088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102235" y="1400"/>
                </a:lnTo>
                <a:lnTo>
                  <a:pt x="1400" y="1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102235" y="20200"/>
                </a:lnTo>
                <a:lnTo>
                  <a:pt x="102235" y="1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35" y="20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>
            <a:hlinkClick r:id="" action="ppaction://hlinkshowjump?jump=nextslide"/>
            <a:hlinkClick r:id="rId7"/>
          </p:cNvPr>
          <p:cNvSpPr/>
          <p:nvPr/>
        </p:nvSpPr>
        <p:spPr>
          <a:xfrm>
            <a:off x="3886200" y="2362320"/>
            <a:ext cx="1828800" cy="457200"/>
          </a:xfrm>
          <a:custGeom>
            <a:avLst/>
            <a:gdLst>
              <a:gd name="textAreaLeft" fmla="*/ 29520 w 1828800"/>
              <a:gd name="textAreaRight" fmla="*/ 1799280 w 1828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6349" h="21600">
                <a:moveTo>
                  <a:pt x="0" y="0"/>
                </a:moveTo>
                <a:lnTo>
                  <a:pt x="86349" y="0"/>
                </a:lnTo>
                <a:lnTo>
                  <a:pt x="86349" y="21600"/>
                </a:lnTo>
                <a:lnTo>
                  <a:pt x="0" y="21600"/>
                </a:lnTo>
                <a:close/>
              </a:path>
              <a:path fill="lightenLess" w="86349" h="21600">
                <a:moveTo>
                  <a:pt x="0" y="0"/>
                </a:moveTo>
                <a:lnTo>
                  <a:pt x="86349" y="0"/>
                </a:lnTo>
                <a:lnTo>
                  <a:pt x="84949" y="1400"/>
                </a:lnTo>
                <a:lnTo>
                  <a:pt x="1400" y="1400"/>
                </a:lnTo>
                <a:close/>
              </a:path>
              <a:path fill="darken" w="86349" h="21600">
                <a:moveTo>
                  <a:pt x="86349" y="0"/>
                </a:moveTo>
                <a:lnTo>
                  <a:pt x="86349" y="21600"/>
                </a:lnTo>
                <a:lnTo>
                  <a:pt x="84949" y="20200"/>
                </a:lnTo>
                <a:lnTo>
                  <a:pt x="84949" y="1400"/>
                </a:lnTo>
                <a:close/>
              </a:path>
              <a:path fill="darkenLess" w="86349" h="21600">
                <a:moveTo>
                  <a:pt x="8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9" y="20200"/>
                </a:lnTo>
                <a:close/>
              </a:path>
              <a:path fill="lighten" w="8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119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2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133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Mama are 10 mere. 3 îi dă Monicăi şi 3 lui Teo. Câte mere îi rămân mame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862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6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3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6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m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3"/>
          <a:stretch/>
        </p:blipFill>
        <p:spPr>
          <a:xfrm>
            <a:off x="2438280" y="2057400"/>
            <a:ext cx="1276560" cy="1285920"/>
          </a:xfrm>
          <a:prstGeom prst="rect">
            <a:avLst/>
          </a:prstGeom>
          <a:ln w="0">
            <a:noFill/>
          </a:ln>
        </p:spPr>
      </p:pic>
      <p:sp>
        <p:nvSpPr>
          <p:cNvPr id="1138" name="">
            <a:hlinkClick r:id="rId4"/>
          </p:cNvPr>
          <p:cNvSpPr/>
          <p:nvPr/>
        </p:nvSpPr>
        <p:spPr>
          <a:xfrm>
            <a:off x="3809880" y="1905120"/>
            <a:ext cx="1524240" cy="38088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80" h="21600">
                <a:moveTo>
                  <a:pt x="0" y="0"/>
                </a:moveTo>
                <a:lnTo>
                  <a:pt x="86380" y="0"/>
                </a:lnTo>
                <a:lnTo>
                  <a:pt x="86380" y="21600"/>
                </a:lnTo>
                <a:lnTo>
                  <a:pt x="0" y="21600"/>
                </a:lnTo>
                <a:close/>
              </a:path>
              <a:path fill="lightenLess" w="86380" h="21600">
                <a:moveTo>
                  <a:pt x="0" y="0"/>
                </a:moveTo>
                <a:lnTo>
                  <a:pt x="86380" y="0"/>
                </a:lnTo>
                <a:lnTo>
                  <a:pt x="84980" y="1400"/>
                </a:lnTo>
                <a:lnTo>
                  <a:pt x="1400" y="1400"/>
                </a:lnTo>
                <a:close/>
              </a:path>
              <a:path fill="darken" w="86380" h="21600">
                <a:moveTo>
                  <a:pt x="86380" y="0"/>
                </a:moveTo>
                <a:lnTo>
                  <a:pt x="86380" y="21600"/>
                </a:lnTo>
                <a:lnTo>
                  <a:pt x="84980" y="20200"/>
                </a:lnTo>
                <a:lnTo>
                  <a:pt x="84980" y="1400"/>
                </a:lnTo>
                <a:close/>
              </a:path>
              <a:path fill="darkenLess" w="86380" h="21600">
                <a:moveTo>
                  <a:pt x="86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0" y="20200"/>
                </a:lnTo>
                <a:close/>
              </a:path>
              <a:path fill="lighten" w="86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>
            <a:hlinkClick r:id="rId5"/>
          </p:cNvPr>
          <p:cNvSpPr/>
          <p:nvPr/>
        </p:nvSpPr>
        <p:spPr>
          <a:xfrm>
            <a:off x="3962520" y="23623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>
            <a:hlinkClick r:id="rId6"/>
          </p:cNvPr>
          <p:cNvSpPr/>
          <p:nvPr/>
        </p:nvSpPr>
        <p:spPr>
          <a:xfrm>
            <a:off x="3962520" y="28195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>
            <a:hlinkClick r:id="" action="ppaction://hlinkshowjump?jump=nextslide"/>
            <a:hlinkClick r:id="rId7"/>
          </p:cNvPr>
          <p:cNvSpPr/>
          <p:nvPr/>
        </p:nvSpPr>
        <p:spPr>
          <a:xfrm>
            <a:off x="3886200" y="32767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143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6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157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2209680" y="99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Eu am 20 de rochii. 2 i-am făcut cadou Henrietei, 1 rochie i-am dat lui Carmen şi 4 le-am donat unor fetiţe orfane. Câte rochii mi-au mai ră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572000" y="213372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13 roch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27 roch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22 roch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25 roch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3"/>
          <a:stretch/>
        </p:blipFill>
        <p:spPr>
          <a:xfrm>
            <a:off x="2819520" y="2362320"/>
            <a:ext cx="1209600" cy="1276200"/>
          </a:xfrm>
          <a:prstGeom prst="rect">
            <a:avLst/>
          </a:prstGeom>
          <a:ln w="0">
            <a:noFill/>
          </a:ln>
        </p:spPr>
      </p:pic>
      <p:sp>
        <p:nvSpPr>
          <p:cNvPr id="1162" name="">
            <a:hlinkClick r:id="rId4"/>
          </p:cNvPr>
          <p:cNvSpPr/>
          <p:nvPr/>
        </p:nvSpPr>
        <p:spPr>
          <a:xfrm>
            <a:off x="4572000" y="25909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>
            <a:hlinkClick r:id="rId5"/>
          </p:cNvPr>
          <p:cNvSpPr/>
          <p:nvPr/>
        </p:nvSpPr>
        <p:spPr>
          <a:xfrm>
            <a:off x="4572000" y="29718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>
            <a:hlinkClick r:id="rId6"/>
          </p:cNvPr>
          <p:cNvSpPr/>
          <p:nvPr/>
        </p:nvSpPr>
        <p:spPr>
          <a:xfrm>
            <a:off x="4572000" y="3352680"/>
            <a:ext cx="1523880" cy="38124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4878" y="1400"/>
                </a:lnTo>
                <a:lnTo>
                  <a:pt x="1400" y="140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4878" y="20200"/>
                </a:lnTo>
                <a:lnTo>
                  <a:pt x="84878" y="140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78" y="2020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>
            <a:hlinkClick r:id="" action="ppaction://hlinkshowjump?jump=nextslide"/>
            <a:hlinkClick r:id="rId7"/>
          </p:cNvPr>
          <p:cNvSpPr/>
          <p:nvPr/>
        </p:nvSpPr>
        <p:spPr>
          <a:xfrm>
            <a:off x="4648320" y="2133720"/>
            <a:ext cx="1447560" cy="380880"/>
          </a:xfrm>
          <a:custGeom>
            <a:avLst/>
            <a:gdLst>
              <a:gd name="textAreaLeft" fmla="*/ 24480 w 1447560"/>
              <a:gd name="textAreaRight" fmla="*/ 1423080 w 1447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35" h="21600">
                <a:moveTo>
                  <a:pt x="0" y="0"/>
                </a:moveTo>
                <a:lnTo>
                  <a:pt x="82035" y="0"/>
                </a:lnTo>
                <a:lnTo>
                  <a:pt x="82035" y="21600"/>
                </a:lnTo>
                <a:lnTo>
                  <a:pt x="0" y="21600"/>
                </a:lnTo>
                <a:close/>
              </a:path>
              <a:path fill="lightenLess" w="82035" h="21600">
                <a:moveTo>
                  <a:pt x="0" y="0"/>
                </a:moveTo>
                <a:lnTo>
                  <a:pt x="82035" y="0"/>
                </a:lnTo>
                <a:lnTo>
                  <a:pt x="80635" y="1400"/>
                </a:lnTo>
                <a:lnTo>
                  <a:pt x="1400" y="1400"/>
                </a:lnTo>
                <a:close/>
              </a:path>
              <a:path fill="darken" w="82035" h="21600">
                <a:moveTo>
                  <a:pt x="82035" y="0"/>
                </a:moveTo>
                <a:lnTo>
                  <a:pt x="82035" y="21600"/>
                </a:lnTo>
                <a:lnTo>
                  <a:pt x="80635" y="20200"/>
                </a:lnTo>
                <a:lnTo>
                  <a:pt x="80635" y="1400"/>
                </a:lnTo>
                <a:close/>
              </a:path>
              <a:path fill="darkenLess" w="82035" h="21600">
                <a:moveTo>
                  <a:pt x="82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35" y="20200"/>
                </a:lnTo>
                <a:close/>
              </a:path>
              <a:path fill="lighten" w="82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167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181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2209680" y="99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Marius, Raul şi Bogdan s-au dus la Mc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’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Donalds. Marius a mâncat 3 hamburgeri, Raul 4 şi Bogdan 2. Câţi hamburgeri au mâncat cei trei copi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572000" y="213372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8 hamburge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9 hamburge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10 hamburge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11 hamburge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3"/>
          <a:stretch/>
        </p:blipFill>
        <p:spPr>
          <a:xfrm>
            <a:off x="2590920" y="2362320"/>
            <a:ext cx="1562040" cy="1190520"/>
          </a:xfrm>
          <a:prstGeom prst="rect">
            <a:avLst/>
          </a:prstGeom>
          <a:ln w="0">
            <a:noFill/>
          </a:ln>
        </p:spPr>
      </p:pic>
      <p:sp>
        <p:nvSpPr>
          <p:cNvPr id="1186" name="">
            <a:hlinkClick r:id="rId4"/>
          </p:cNvPr>
          <p:cNvSpPr/>
          <p:nvPr/>
        </p:nvSpPr>
        <p:spPr>
          <a:xfrm>
            <a:off x="4648320" y="2133720"/>
            <a:ext cx="1981080" cy="380880"/>
          </a:xfrm>
          <a:custGeom>
            <a:avLst/>
            <a:gdLst>
              <a:gd name="textAreaLeft" fmla="*/ 24480 w 1981080"/>
              <a:gd name="textAreaRight" fmla="*/ 1956600 w 1981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2263" h="21600">
                <a:moveTo>
                  <a:pt x="0" y="0"/>
                </a:moveTo>
                <a:lnTo>
                  <a:pt x="112263" y="0"/>
                </a:lnTo>
                <a:lnTo>
                  <a:pt x="112263" y="21600"/>
                </a:lnTo>
                <a:lnTo>
                  <a:pt x="0" y="21600"/>
                </a:lnTo>
                <a:close/>
              </a:path>
              <a:path fill="lightenLess" w="112263" h="21600">
                <a:moveTo>
                  <a:pt x="0" y="0"/>
                </a:moveTo>
                <a:lnTo>
                  <a:pt x="112263" y="0"/>
                </a:lnTo>
                <a:lnTo>
                  <a:pt x="110863" y="1400"/>
                </a:lnTo>
                <a:lnTo>
                  <a:pt x="1400" y="1400"/>
                </a:lnTo>
                <a:close/>
              </a:path>
              <a:path fill="darken" w="112263" h="21600">
                <a:moveTo>
                  <a:pt x="112263" y="0"/>
                </a:moveTo>
                <a:lnTo>
                  <a:pt x="112263" y="21600"/>
                </a:lnTo>
                <a:lnTo>
                  <a:pt x="110863" y="20200"/>
                </a:lnTo>
                <a:lnTo>
                  <a:pt x="110863" y="1400"/>
                </a:lnTo>
                <a:close/>
              </a:path>
              <a:path fill="darkenLess" w="112263" h="21600">
                <a:moveTo>
                  <a:pt x="112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63" y="20200"/>
                </a:lnTo>
                <a:close/>
              </a:path>
              <a:path fill="lighten" w="112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>
            <a:hlinkClick r:id="rId5"/>
          </p:cNvPr>
          <p:cNvSpPr/>
          <p:nvPr/>
        </p:nvSpPr>
        <p:spPr>
          <a:xfrm>
            <a:off x="4572000" y="2971800"/>
            <a:ext cx="2057400" cy="38088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6587" h="21600">
                <a:moveTo>
                  <a:pt x="0" y="0"/>
                </a:moveTo>
                <a:lnTo>
                  <a:pt x="116587" y="0"/>
                </a:lnTo>
                <a:lnTo>
                  <a:pt x="116587" y="21600"/>
                </a:lnTo>
                <a:lnTo>
                  <a:pt x="0" y="21600"/>
                </a:lnTo>
                <a:close/>
              </a:path>
              <a:path fill="lightenLess" w="116587" h="21600">
                <a:moveTo>
                  <a:pt x="0" y="0"/>
                </a:moveTo>
                <a:lnTo>
                  <a:pt x="116587" y="0"/>
                </a:lnTo>
                <a:lnTo>
                  <a:pt x="115187" y="1400"/>
                </a:lnTo>
                <a:lnTo>
                  <a:pt x="1400" y="1400"/>
                </a:lnTo>
                <a:close/>
              </a:path>
              <a:path fill="darken" w="116587" h="21600">
                <a:moveTo>
                  <a:pt x="116587" y="0"/>
                </a:moveTo>
                <a:lnTo>
                  <a:pt x="116587" y="21600"/>
                </a:lnTo>
                <a:lnTo>
                  <a:pt x="115187" y="20200"/>
                </a:lnTo>
                <a:lnTo>
                  <a:pt x="115187" y="1400"/>
                </a:lnTo>
                <a:close/>
              </a:path>
              <a:path fill="darkenLess" w="116587" h="21600">
                <a:moveTo>
                  <a:pt x="116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87" y="20200"/>
                </a:lnTo>
                <a:close/>
              </a:path>
              <a:path fill="lighten" w="116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>
            <a:hlinkClick r:id="rId6"/>
          </p:cNvPr>
          <p:cNvSpPr/>
          <p:nvPr/>
        </p:nvSpPr>
        <p:spPr>
          <a:xfrm>
            <a:off x="4495680" y="3352680"/>
            <a:ext cx="2210040" cy="381240"/>
          </a:xfrm>
          <a:custGeom>
            <a:avLst/>
            <a:gdLst>
              <a:gd name="textAreaLeft" fmla="*/ 24480 w 2210040"/>
              <a:gd name="textAreaRight" fmla="*/ 2185560 w 22100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5117" h="21600">
                <a:moveTo>
                  <a:pt x="0" y="0"/>
                </a:moveTo>
                <a:lnTo>
                  <a:pt x="125117" y="0"/>
                </a:lnTo>
                <a:lnTo>
                  <a:pt x="125117" y="21600"/>
                </a:lnTo>
                <a:lnTo>
                  <a:pt x="0" y="21600"/>
                </a:lnTo>
                <a:close/>
              </a:path>
              <a:path fill="lightenLess" w="125117" h="21600">
                <a:moveTo>
                  <a:pt x="0" y="0"/>
                </a:moveTo>
                <a:lnTo>
                  <a:pt x="125117" y="0"/>
                </a:lnTo>
                <a:lnTo>
                  <a:pt x="123717" y="1400"/>
                </a:lnTo>
                <a:lnTo>
                  <a:pt x="1400" y="1400"/>
                </a:lnTo>
                <a:close/>
              </a:path>
              <a:path fill="darken" w="125117" h="21600">
                <a:moveTo>
                  <a:pt x="125117" y="0"/>
                </a:moveTo>
                <a:lnTo>
                  <a:pt x="125117" y="21600"/>
                </a:lnTo>
                <a:lnTo>
                  <a:pt x="123717" y="20200"/>
                </a:lnTo>
                <a:lnTo>
                  <a:pt x="123717" y="1400"/>
                </a:lnTo>
                <a:close/>
              </a:path>
              <a:path fill="darkenLess" w="125117" h="21600">
                <a:moveTo>
                  <a:pt x="125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717" y="20200"/>
                </a:lnTo>
                <a:close/>
              </a:path>
              <a:path fill="lighten" w="125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>
            <a:hlinkClick r:id="" action="ppaction://hlinkshowjump?jump=nextslide"/>
            <a:hlinkClick r:id="rId7"/>
          </p:cNvPr>
          <p:cNvSpPr/>
          <p:nvPr/>
        </p:nvSpPr>
        <p:spPr>
          <a:xfrm>
            <a:off x="4572000" y="2514600"/>
            <a:ext cx="1828800" cy="457200"/>
          </a:xfrm>
          <a:custGeom>
            <a:avLst/>
            <a:gdLst>
              <a:gd name="textAreaLeft" fmla="*/ 29520 w 1828800"/>
              <a:gd name="textAreaRight" fmla="*/ 1799280 w 1828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6349" h="21600">
                <a:moveTo>
                  <a:pt x="0" y="0"/>
                </a:moveTo>
                <a:lnTo>
                  <a:pt x="86349" y="0"/>
                </a:lnTo>
                <a:lnTo>
                  <a:pt x="86349" y="21600"/>
                </a:lnTo>
                <a:lnTo>
                  <a:pt x="0" y="21600"/>
                </a:lnTo>
                <a:close/>
              </a:path>
              <a:path fill="lightenLess" w="86349" h="21600">
                <a:moveTo>
                  <a:pt x="0" y="0"/>
                </a:moveTo>
                <a:lnTo>
                  <a:pt x="86349" y="0"/>
                </a:lnTo>
                <a:lnTo>
                  <a:pt x="84949" y="1400"/>
                </a:lnTo>
                <a:lnTo>
                  <a:pt x="1400" y="1400"/>
                </a:lnTo>
                <a:close/>
              </a:path>
              <a:path fill="darken" w="86349" h="21600">
                <a:moveTo>
                  <a:pt x="86349" y="0"/>
                </a:moveTo>
                <a:lnTo>
                  <a:pt x="86349" y="21600"/>
                </a:lnTo>
                <a:lnTo>
                  <a:pt x="84949" y="20200"/>
                </a:lnTo>
                <a:lnTo>
                  <a:pt x="84949" y="1400"/>
                </a:lnTo>
                <a:close/>
              </a:path>
              <a:path fill="darkenLess" w="86349" h="21600">
                <a:moveTo>
                  <a:pt x="8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9" y="20200"/>
                </a:lnTo>
                <a:close/>
              </a:path>
              <a:path fill="lighten" w="8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191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205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6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2209680" y="990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Marian are 15 portocale. El şi cei 3 prieteni ai săi au mâncat 8 portocale. Câte portocale i-au mai ră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73392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7 portoc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1 portoc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6 portoc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9 porto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1123920" cy="1095480"/>
          </a:xfrm>
          <a:prstGeom prst="rect">
            <a:avLst/>
          </a:prstGeom>
          <a:ln w="0">
            <a:noFill/>
          </a:ln>
        </p:spPr>
      </p:pic>
      <p:sp>
        <p:nvSpPr>
          <p:cNvPr id="1210" name="">
            <a:hlinkClick r:id="rId4"/>
          </p:cNvPr>
          <p:cNvSpPr/>
          <p:nvPr/>
        </p:nvSpPr>
        <p:spPr>
          <a:xfrm>
            <a:off x="3886200" y="2362320"/>
            <a:ext cx="1905120" cy="380880"/>
          </a:xfrm>
          <a:custGeom>
            <a:avLst/>
            <a:gdLst>
              <a:gd name="textAreaLeft" fmla="*/ 24480 w 1905120"/>
              <a:gd name="textAreaRight" fmla="*/ 1880640 w 1905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6559" y="1400"/>
                </a:lnTo>
                <a:lnTo>
                  <a:pt x="1400" y="140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6559" y="20200"/>
                </a:lnTo>
                <a:lnTo>
                  <a:pt x="106559" y="140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9" y="2020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>
            <a:hlinkClick r:id="rId5"/>
          </p:cNvPr>
          <p:cNvSpPr/>
          <p:nvPr/>
        </p:nvSpPr>
        <p:spPr>
          <a:xfrm>
            <a:off x="3733920" y="2819520"/>
            <a:ext cx="1981080" cy="380880"/>
          </a:xfrm>
          <a:custGeom>
            <a:avLst/>
            <a:gdLst>
              <a:gd name="textAreaLeft" fmla="*/ 24480 w 1981080"/>
              <a:gd name="textAreaRight" fmla="*/ 1956600 w 1981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2263" h="21600">
                <a:moveTo>
                  <a:pt x="0" y="0"/>
                </a:moveTo>
                <a:lnTo>
                  <a:pt x="112263" y="0"/>
                </a:lnTo>
                <a:lnTo>
                  <a:pt x="112263" y="21600"/>
                </a:lnTo>
                <a:lnTo>
                  <a:pt x="0" y="21600"/>
                </a:lnTo>
                <a:close/>
              </a:path>
              <a:path fill="lightenLess" w="112263" h="21600">
                <a:moveTo>
                  <a:pt x="0" y="0"/>
                </a:moveTo>
                <a:lnTo>
                  <a:pt x="112263" y="0"/>
                </a:lnTo>
                <a:lnTo>
                  <a:pt x="110863" y="1400"/>
                </a:lnTo>
                <a:lnTo>
                  <a:pt x="1400" y="1400"/>
                </a:lnTo>
                <a:close/>
              </a:path>
              <a:path fill="darken" w="112263" h="21600">
                <a:moveTo>
                  <a:pt x="112263" y="0"/>
                </a:moveTo>
                <a:lnTo>
                  <a:pt x="112263" y="21600"/>
                </a:lnTo>
                <a:lnTo>
                  <a:pt x="110863" y="20200"/>
                </a:lnTo>
                <a:lnTo>
                  <a:pt x="110863" y="1400"/>
                </a:lnTo>
                <a:close/>
              </a:path>
              <a:path fill="darkenLess" w="112263" h="21600">
                <a:moveTo>
                  <a:pt x="112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63" y="20200"/>
                </a:lnTo>
                <a:close/>
              </a:path>
              <a:path fill="lighten" w="112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>
            <a:hlinkClick r:id="rId6"/>
          </p:cNvPr>
          <p:cNvSpPr/>
          <p:nvPr/>
        </p:nvSpPr>
        <p:spPr>
          <a:xfrm>
            <a:off x="3657600" y="3276720"/>
            <a:ext cx="2057400" cy="38088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6587" h="21600">
                <a:moveTo>
                  <a:pt x="0" y="0"/>
                </a:moveTo>
                <a:lnTo>
                  <a:pt x="116587" y="0"/>
                </a:lnTo>
                <a:lnTo>
                  <a:pt x="116587" y="21600"/>
                </a:lnTo>
                <a:lnTo>
                  <a:pt x="0" y="21600"/>
                </a:lnTo>
                <a:close/>
              </a:path>
              <a:path fill="lightenLess" w="116587" h="21600">
                <a:moveTo>
                  <a:pt x="0" y="0"/>
                </a:moveTo>
                <a:lnTo>
                  <a:pt x="116587" y="0"/>
                </a:lnTo>
                <a:lnTo>
                  <a:pt x="115187" y="1400"/>
                </a:lnTo>
                <a:lnTo>
                  <a:pt x="1400" y="1400"/>
                </a:lnTo>
                <a:close/>
              </a:path>
              <a:path fill="darken" w="116587" h="21600">
                <a:moveTo>
                  <a:pt x="116587" y="0"/>
                </a:moveTo>
                <a:lnTo>
                  <a:pt x="116587" y="21600"/>
                </a:lnTo>
                <a:lnTo>
                  <a:pt x="115187" y="20200"/>
                </a:lnTo>
                <a:lnTo>
                  <a:pt x="115187" y="1400"/>
                </a:lnTo>
                <a:close/>
              </a:path>
              <a:path fill="darkenLess" w="116587" h="21600">
                <a:moveTo>
                  <a:pt x="116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87" y="20200"/>
                </a:lnTo>
                <a:close/>
              </a:path>
              <a:path fill="lighten" w="116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>
            <a:hlinkClick r:id="" action="ppaction://hlinkshowjump?jump=nextslide"/>
            <a:hlinkClick r:id="rId7"/>
          </p:cNvPr>
          <p:cNvSpPr/>
          <p:nvPr/>
        </p:nvSpPr>
        <p:spPr>
          <a:xfrm>
            <a:off x="3733920" y="1828800"/>
            <a:ext cx="1828800" cy="457200"/>
          </a:xfrm>
          <a:custGeom>
            <a:avLst/>
            <a:gdLst>
              <a:gd name="textAreaLeft" fmla="*/ 29520 w 1828800"/>
              <a:gd name="textAreaRight" fmla="*/ 1799280 w 1828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6349" h="21600">
                <a:moveTo>
                  <a:pt x="0" y="0"/>
                </a:moveTo>
                <a:lnTo>
                  <a:pt x="86349" y="0"/>
                </a:lnTo>
                <a:lnTo>
                  <a:pt x="86349" y="21600"/>
                </a:lnTo>
                <a:lnTo>
                  <a:pt x="0" y="21600"/>
                </a:lnTo>
                <a:close/>
              </a:path>
              <a:path fill="lightenLess" w="86349" h="21600">
                <a:moveTo>
                  <a:pt x="0" y="0"/>
                </a:moveTo>
                <a:lnTo>
                  <a:pt x="86349" y="0"/>
                </a:lnTo>
                <a:lnTo>
                  <a:pt x="84949" y="1400"/>
                </a:lnTo>
                <a:lnTo>
                  <a:pt x="1400" y="1400"/>
                </a:lnTo>
                <a:close/>
              </a:path>
              <a:path fill="darken" w="86349" h="21600">
                <a:moveTo>
                  <a:pt x="86349" y="0"/>
                </a:moveTo>
                <a:lnTo>
                  <a:pt x="86349" y="21600"/>
                </a:lnTo>
                <a:lnTo>
                  <a:pt x="84949" y="20200"/>
                </a:lnTo>
                <a:lnTo>
                  <a:pt x="84949" y="1400"/>
                </a:lnTo>
                <a:close/>
              </a:path>
              <a:path fill="darkenLess" w="86349" h="21600">
                <a:moveTo>
                  <a:pt x="8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9" y="20200"/>
                </a:lnTo>
                <a:close/>
              </a:path>
              <a:path fill="lighten" w="8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215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"/>
          <p:cNvGrpSpPr/>
          <p:nvPr/>
        </p:nvGrpSpPr>
        <p:grpSpPr>
          <a:xfrm>
            <a:off x="-360" y="-360"/>
            <a:ext cx="9144360" cy="6866280"/>
            <a:chOff x="-360" y="-360"/>
            <a:chExt cx="9144360" cy="6866280"/>
          </a:xfrm>
        </p:grpSpPr>
        <p:grpSp>
          <p:nvGrpSpPr>
            <p:cNvPr id="1229" name=""/>
            <p:cNvGrpSpPr/>
            <p:nvPr/>
          </p:nvGrpSpPr>
          <p:grpSpPr>
            <a:xfrm>
              <a:off x="0" y="6095880"/>
              <a:ext cx="9144000" cy="770040"/>
              <a:chOff x="0" y="6095880"/>
              <a:chExt cx="9144000" cy="770040"/>
            </a:xfrm>
          </p:grpSpPr>
          <p:sp>
            <p:nvSpPr>
              <p:cNvPr id="1230" name="" hidden="1"/>
              <p:cNvSpPr/>
              <p:nvPr/>
            </p:nvSpPr>
            <p:spPr>
              <a:xfrm>
                <a:off x="0" y="6095880"/>
                <a:ext cx="9144000" cy="77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6095880"/>
                <a:ext cx="9144000" cy="7700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6200640"/>
                <a:ext cx="3048120" cy="56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319480" y="6200640"/>
                <a:ext cx="715680" cy="5601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6480720"/>
                <a:ext cx="2319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048120" y="6200640"/>
                <a:ext cx="3047760" cy="56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367600" y="6200640"/>
                <a:ext cx="715680" cy="5601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048120" y="6480720"/>
                <a:ext cx="2319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095880" y="6200640"/>
                <a:ext cx="3048120" cy="56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415720" y="6200640"/>
                <a:ext cx="715680" cy="5601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095880" y="6480720"/>
                <a:ext cx="2319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0" y="0"/>
              <a:ext cx="9144000" cy="685800"/>
              <a:chOff x="0" y="0"/>
              <a:chExt cx="9144000" cy="685800"/>
            </a:xfrm>
          </p:grpSpPr>
          <p:sp>
            <p:nvSpPr>
              <p:cNvPr id="1242" name="" hidden="1"/>
              <p:cNvSpPr/>
              <p:nvPr/>
            </p:nvSpPr>
            <p:spPr>
              <a:xfrm flipH="1">
                <a:off x="0" y="0"/>
                <a:ext cx="9144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0" y="0"/>
                <a:ext cx="9144000" cy="6858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6095520" y="93240"/>
                <a:ext cx="304812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6108840" y="93240"/>
                <a:ext cx="71568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6824520" y="342720"/>
                <a:ext cx="2319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048120" y="93240"/>
                <a:ext cx="304776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3060720" y="93240"/>
                <a:ext cx="71568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776400" y="342720"/>
                <a:ext cx="2319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-360" y="93240"/>
                <a:ext cx="304812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12600" y="93240"/>
                <a:ext cx="71568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728640" y="342720"/>
                <a:ext cx="2319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-360" y="685800"/>
              <a:ext cx="685800" cy="6172200"/>
              <a:chOff x="-360" y="685800"/>
              <a:chExt cx="685800" cy="6172200"/>
            </a:xfrm>
          </p:grpSpPr>
          <p:sp>
            <p:nvSpPr>
              <p:cNvPr id="1254" name="" hidden="1"/>
              <p:cNvSpPr/>
              <p:nvPr/>
            </p:nvSpPr>
            <p:spPr>
              <a:xfrm rot="5400000">
                <a:off x="-2743560" y="3429000"/>
                <a:ext cx="617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5400000">
                <a:off x="-2743560" y="3429000"/>
                <a:ext cx="6172200" cy="6858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5400000">
                <a:off x="-686160" y="1464840"/>
                <a:ext cx="205740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5400000">
                <a:off x="101160" y="2243880"/>
                <a:ext cx="48312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42720" y="685800"/>
                <a:ext cx="0" cy="156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5400000">
                <a:off x="-686160" y="3522600"/>
                <a:ext cx="205740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5400000">
                <a:off x="101160" y="4301280"/>
                <a:ext cx="48312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2720" y="2743560"/>
                <a:ext cx="0" cy="156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5400000">
                <a:off x="-686160" y="5579640"/>
                <a:ext cx="205740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5400000">
                <a:off x="101160" y="6358680"/>
                <a:ext cx="48312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42720" y="4800600"/>
                <a:ext cx="0" cy="156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8458200" y="-360"/>
              <a:ext cx="685800" cy="6172200"/>
              <a:chOff x="8458200" y="-360"/>
              <a:chExt cx="685800" cy="6172200"/>
            </a:xfrm>
          </p:grpSpPr>
          <p:sp>
            <p:nvSpPr>
              <p:cNvPr id="1266" name="" hidden="1"/>
              <p:cNvSpPr/>
              <p:nvPr/>
            </p:nvSpPr>
            <p:spPr>
              <a:xfrm rot="16200000">
                <a:off x="5715000" y="2742840"/>
                <a:ext cx="617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6200000">
                <a:off x="5715000" y="2742840"/>
                <a:ext cx="6172200" cy="6858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6200000">
                <a:off x="7772400" y="4893480"/>
                <a:ext cx="205740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16200000">
                <a:off x="8559360" y="4115160"/>
                <a:ext cx="48312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8800920" y="4606200"/>
                <a:ext cx="0" cy="156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 rot="16200000">
                <a:off x="7772040" y="2835720"/>
                <a:ext cx="205740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16200000">
                <a:off x="8559360" y="2057400"/>
                <a:ext cx="48312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8800920" y="2548800"/>
                <a:ext cx="0" cy="156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16200000">
                <a:off x="7772400" y="778680"/>
                <a:ext cx="205740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16200000">
                <a:off x="8559360" y="0"/>
                <a:ext cx="48312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8800920" y="491400"/>
                <a:ext cx="0" cy="156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7" name=""/>
          <p:cNvGrpSpPr/>
          <p:nvPr/>
        </p:nvGrpSpPr>
        <p:grpSpPr>
          <a:xfrm>
            <a:off x="1676520" y="838080"/>
            <a:ext cx="5866920" cy="5257440"/>
            <a:chOff x="1676520" y="838080"/>
            <a:chExt cx="5866920" cy="5257440"/>
          </a:xfrm>
        </p:grpSpPr>
        <p:pic>
          <p:nvPicPr>
            <p:cNvPr id="1278" name="" descr=""/>
            <p:cNvPicPr/>
            <p:nvPr/>
          </p:nvPicPr>
          <p:blipFill>
            <a:blip r:embed="rId2"/>
            <a:stretch/>
          </p:blipFill>
          <p:spPr>
            <a:xfrm>
              <a:off x="1676520" y="838080"/>
              <a:ext cx="586692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9" name=""/>
            <p:cNvSpPr/>
            <p:nvPr/>
          </p:nvSpPr>
          <p:spPr>
            <a:xfrm>
              <a:off x="2328120" y="941760"/>
              <a:ext cx="4563360" cy="2800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2286000" y="914400"/>
            <a:ext cx="4648320" cy="28195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590920" y="1066680"/>
            <a:ext cx="396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Dacă ai reuşit să dai răspunsuri corecte la toate exerciţiile şi problemele, înseamnă că l-ai ajutat pe Thomas să înainteze şi meriţi toate felicitările. Dacă ai mai făcut greşeli, înseamnă că trebuie să rezolvi mai multe exerciţii şi probl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371600" y="649116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6664"/>
                </a:solidFill>
                <a:latin typeface="Comic Sans MS"/>
              </a:rPr>
              <a:t>Realizat de înv. Florica Plosca, Şc. “Dariu Pop”, Satu 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28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19520" y="121932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10 - 4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5 + 4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00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4 + 6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7 - 4 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2:32:07Z</dcterms:created>
  <dc:creator>ligia</dc:creator>
  <dc:description/>
  <dc:language>en-US</dc:language>
  <cp:lastModifiedBy>ligia</cp:lastModifiedBy>
  <dcterms:modified xsi:type="dcterms:W3CDTF">2009-12-28T17:46:22Z</dcterms:modified>
  <cp:revision>25</cp:revision>
  <dc:subject/>
  <dc:title>Slide 1</dc:title>
</cp:coreProperties>
</file>